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6064-8977-41C7-A855-2FA508D0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2FB6-9F3E-43D9-9725-ADBD841D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1A39-74FA-4C31-8144-EC287657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BD5C-F9BD-42F6-86C3-9475F18D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DF2A-7F16-4868-8849-ADC1FE48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8512-EC9C-4ADD-94BC-419BF0E2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2534-EAFB-4FF7-A8FF-94EB3C42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E81F-B2D5-411E-B7FE-69878681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8887-052C-4356-A54C-26850B7D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C2E8-17A8-46CC-BFFF-FCCC3F58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F6EB-864A-4692-8A95-A90A00CA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AFAC-E7CC-4966-B90C-9DF65359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EDD1-B2CE-49ED-BDEB-ED541014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4670-1F7E-40E2-AF62-9345F27E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FB93-D04D-48D5-8D24-566A425F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A305-B1B1-49B1-B37C-EEACBC25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1A57-3BA9-4C7F-8B3B-A44A05B6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EE54A-78F8-47C0-BE46-E7807B5B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FA84D-39D5-41DF-A098-C009E20A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9DD4F-3B6F-4E2B-B3D0-766E2C2F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0C1D1-4A53-4C46-B442-78339129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57417-D219-4F4D-BA97-0504A9D3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D39B-5C97-4E6C-9DB2-7960883A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27779-4B44-4E6E-81A3-62AA720E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DC4DE-1609-475E-B95E-8AF570B6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6DB03-CB25-471C-91EB-9733C96A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FD1AA-F78B-4CF2-B6EA-4E4B2145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AEAD3-4101-4576-8455-71BAFAF0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748C4-C72D-4174-8B01-C6044FA6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71A48-975E-4955-8B25-415FF95E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101D6-6FD7-4408-9D37-9CACFD92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2D75B-BFC5-433B-91A7-A0FDAD83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2C9DA-2955-4106-9E9D-B872E8F6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9F7-CFF5-4FA5-A8D5-9A1CC456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D764D-A668-44C5-911F-4735AEEE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4F90C-3C8D-42B6-A244-40349DA1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6F6E5-1C03-4A96-85EA-12812D68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79CA1-19AF-4A7F-9DCA-F8739938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8AF04-6CEC-4436-B196-9BA95237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B82D4-48B7-4FC4-A35A-42FFF67D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88D32-DDE6-4815-A8B7-711CB2DE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F6208-7684-4904-A42A-92091865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513D4-83DB-4489-A408-CFCAFFD7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A5EFE-A9AD-450B-8A13-9A6C3B28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34D-C8B7-4318-91EA-DE241CC5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B9F1A-04FB-4C17-8B21-318D409F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11786-F27B-4D60-8CCC-1459DD7A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EEB0D-67B4-413D-B8E7-6F90B1EE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12416-9642-4C41-A396-4ADFD2EA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5554D-DCED-46BF-AB29-5DA8478E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84018-15B9-42BA-99AE-84DD416C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3D82E-FC17-42BD-AAB1-EFC07F0A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F356D-04CC-435E-B0B4-AC278277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9D444-F0F2-4D43-9373-0D0605C3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75CAA-E5D1-434F-879E-D4D21458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1D50-4E4B-4EEC-A2B5-ADB4E4D6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E8868-E441-4F0E-83EB-6165F675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BF1DB-220B-4E71-8D69-A067AD27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4FDA7-426F-443C-B50F-BBF26B3A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7DDD3-A998-4A03-A5D6-4F9CAF9B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4424B-4CFA-44EF-9389-09C6BB63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96F43-EC26-4BAB-A788-636BEDCD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FFCEF-8B04-46B6-804A-934D0866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74DCA-CC81-4486-BD63-4468EB2A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FDF89-B324-44A1-9517-EB524D45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06929-9AF4-4C40-867D-2B5A43B3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3243-EAF4-487F-8516-97DE343A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5E5D5-ECE9-4756-85E6-808C2A02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C2545-404F-40BC-9792-AF3B69EA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EF970-1F4F-4DBC-B5A9-75D0C0F1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87362-FFBB-4CFC-8F66-5A3B89C4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490A9-A64E-4229-AE37-AB896940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49A29-6C36-4655-B815-6C06DC33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7CFC3-1BA6-4572-923B-8AABCA91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00567-26ED-48A3-A244-AD62D9BC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E29B8-7270-4D28-96E7-B9F263DF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BF9EA-B9F3-4A3B-9C12-A42A06DD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D051-3A98-4F3E-BD59-7F6FA824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39560-A781-4A20-816E-66E970C2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94AE7-B149-4B50-A004-0B49C81E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89E55-FAF2-46BD-9916-639D0151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89CC7-0391-4B93-B2E5-8E9F9824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986DC-413C-4907-BBC6-A634E29A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BEBC-00C2-4D0E-93ED-A0CC44AE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73DF-A5A6-471B-A400-019D222DD4B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9D5B-A48F-441B-9749-4FE90FC4B65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4199-B90D-4491-8F0B-CD9B7643E02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E40D-2F61-471E-89CE-9FE703C3AAE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4488-5D9B-4046-9D44-9FBEBA1CFEC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0A36-2C88-431C-A88D-8EC5BF8AFEA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3CAE-1176-4CBC-B079-33EAB2C47BA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азвитие ключевых компетенций на уроках русского языка и литературы                               (в начальной и основной школе)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78915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4f271c"/>
                </a:solidFill>
                <a:latin typeface="Times New Roman"/>
              </a:rPr>
              <a:t>Лингвистическая компетенция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едполагает глубокое осмысление устной и письменной речи,  её законов, правил, структуры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еспечивае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знавательную культур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личности школьника, развити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огического мышления, памяти, воображе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учащихся, овладение навыкам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амоанализа , самооценк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826560" y="0"/>
            <a:ext cx="8317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плексный анализ текст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формирование языковой и лингвистической компетенции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устясь (в)середину гор..да я пош..л бульваром где встретил (не)сколько печальных гру(п,пп) медле(н,нн)о поднимающ..хся в гору …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конец вот и к..лодец…(На) пл..щадк.. близ него построе(н,нн) домик  с красн..й  кровлею (над)ванной а п..дальше га(л,лл)ерея где гуляют (во)время дождя. (Не)сколько ране(н,нн)ых офицеров сидели на лавке под..брав к..стыли. (Не)сколько дам скорыми шагами х..дили (в)зад и (в)перед (по)площадке ожидая действия вод. Под в..ноградными а(л,лл)еями покрывающими скат (М,м)ашука мелькали п..орою пестрые шляпки любительниц   уед..нения (в)двоем потому (что) всегда возле такой шляпки я зам..чал или вое(н,нн)ую фура..ку или без..бразную круглу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116000" y="0"/>
            <a:ext cx="8028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ляпу. На крутой скале где п..строе(н,нн) п..в..льон называемый (Э,э)оловой (А,а)рфой торчали любители видов и нав..дили т..л..скоп на (Э,э)льборус между ними были два гувернера с св..ими в..спита(н,нн)иками пр..ехавшими л..чи(т,ть)ся от з..лотух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ост..новился запыхавшись (на) краю г..ры и пр..слонясь к углу домика стал ра(с,сс)матривать ж..вописную окре(с, ст)ность.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                ?              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042560" y="-360"/>
            <a:ext cx="78915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дани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 Выразительно прочитайте текст, докажите, что это текс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 Укажите произведение, из которого взят данный отрывок, автора, название глав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  Определите стиль, тип речи. Обоснуйте свой отве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  Вставьте пропущенные буквы и знаки препина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   Графически обозначьте орфограмм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   Подберите синонимы к слов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живописную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8317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полните разбор последнего предложения по членам и синтаксическ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     Укажите особенности произношения и написания слов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окрестность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Выполните фонетический разбор этого слов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берите морфологически одно из причаст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  Какова композиция текста (количество смысловых частей, микротемы этих частей)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.  Каков характер связи предложений в тексте (цепная или параллельная)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.  Назовите средства выразительности, используемые автором. Какова их роль в тексте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84360" y="259920"/>
            <a:ext cx="8712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lang="en-US" sz="3200" spc="-1" strike="noStrike">
                <a:solidFill>
                  <a:srgbClr val="4f271c"/>
                </a:solidFill>
                <a:latin typeface="Corbel"/>
              </a:rPr>
              <a:t> </a:t>
            </a:r>
            <a:r>
              <a:rPr b="1" lang="en-US" sz="3200" spc="-1" strike="noStrike">
                <a:solidFill>
                  <a:srgbClr val="4f271c"/>
                </a:solidFill>
                <a:latin typeface="Times New Roman"/>
              </a:rPr>
              <a:t>Коммуникативная (речевая) компетенци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ния о речи, её функциях, развитие умений в области четырёх основных видов речевой деятельн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(говорения,                слушания и понимания, чтения, письма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  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новное ум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формируемое в рамках коммуникативной компетенции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умение создавать и воспринимать тексты – продукты речевой деятельности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8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imes New Roman"/>
              </a:rPr>
              <a:t>Социокультурная компетенция</a:t>
            </a:r>
            <a:r>
              <a:rPr b="1" lang="en-US" sz="4300" spc="-1" strike="noStrike">
                <a:solidFill>
                  <a:srgbClr val="000000"/>
                </a:solidFill>
                <a:latin typeface="Cambria Math"/>
              </a:rPr>
              <a:t> –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42560" y="1447560"/>
            <a:ext cx="7891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то становление представлений человека об окружающем мире. Эти представления  и их смыслы, сосредоточенные в структурах сознания, отношения и функционирования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бразуют специфический этнический, национальный образ мыс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Times New Roman"/>
              </a:rPr>
              <a:t>Вывод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5528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лавная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компетентностного подхода в преподавании русского языка и литературы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формирование всесторонне развитой личности школьника, его теоретического мышления, языковой интуиции и способностей, овладение культурой речевого общен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4f271c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87280" y="-819000"/>
            <a:ext cx="7956720" cy="72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мпетенция</a:t>
            </a: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– это круг вопросов, в котором человек хорошо осведомлен; приобретенные знания, которыми он может практически воспользоваться в жизни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532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омпетентностный подхо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чить следует не просто конкретным «застывшим» знаниям; следует «учить учиться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Главная цел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компетентностного подхода в преподавании русского языка и литературы –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формирование всесторонне развитой личности школьника, его теоретического мышления, языковой интуиции и способностей, овладение культурой речевого общения и повед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1042560" y="189000"/>
            <a:ext cx="78915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 u="sng">
                <a:solidFill>
                  <a:srgbClr val="4f271c"/>
                </a:solidFill>
                <a:uFillTx/>
                <a:latin typeface="Times New Roman"/>
              </a:rPr>
              <a:t>Четыре блока компетенций в начальной школ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) Личност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) Регулятивны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) Познаватель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4) Коммуникатив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1042560" y="189000"/>
            <a:ext cx="81010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ак пишут письма и телеграмм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нтон решил написать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исьм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абушке. Он слышал, что в начале писем обычно пишут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важаемая …! Дорогая …!                             Моя любимая …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 ты получал(а) письма? Вспомни об одном из ни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 зачем люди пишут письм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 кл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539640" y="-171720"/>
            <a:ext cx="8785440" cy="64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читай текст. Как ты его назовешь, чтобы передать главную мысль отрывка, его настроение? Читая, находи однородные члены и решай, нужны ли на месте скобок союзы; если нужны, то какие. Думай о запятых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ма ( ) бабушка не сог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аются пустить Марину в ба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йн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Дедушка, помоги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рина это не говорит ( ) думает. Она даже не думает ( ) просто смотрит на дедушку. Он и без слов ее понимае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Я за ба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йн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рина кричит ( ) прыгает ( ) круж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я ( ) вер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я от радос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Компетенции, формируемые на  уроках </a:t>
            </a:r>
            <a:r>
              <a:rPr b="1" lang="en-US" sz="3200" spc="-1" strike="noStrike" u="sng">
                <a:solidFill>
                  <a:srgbClr val="572314"/>
                </a:solidFill>
                <a:uFillTx/>
                <a:latin typeface="Times New Roman"/>
              </a:rPr>
              <a:t>русского языка и литературы</a:t>
            </a: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96284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Языков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. Лингвистическ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.  Коммуникативная (речевая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4.  Социокультурн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9156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72314"/>
                </a:solidFill>
                <a:latin typeface="Times New Roman"/>
              </a:rPr>
              <a:t>Языковая компетенция</a:t>
            </a: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7921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9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      –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 способность учащихся употреблять слова, их формы, синтаксические структуры в соответствии с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ормами литературного язы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использовать его синонимические структуры, средства в соответствии с нормами литературного языка, в итоге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ладение богатством языка как условие успешной речевой деятель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39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и задачи традиционно решаются в школе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ведением новых пластов лексики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полнением фразеологического запаса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огащением грамматического строя речи учащихся: усваиваются морфологические нормы согласования, управления, построения предложений разных видов, речь школьников обогащается синонимическими конструкциям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042560" y="189000"/>
            <a:ext cx="78915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ние: Найти омонимичные части речи, объяснить их слитное и раздельное написани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сутствовать (в)течени.. недели, изменения (в)течени.. реки, болеть (в) продолжени.. месяца, (в) продолжени.. романа, положить (на)счет в банке, узнать (на)счет расписания, (не)смотря по сторонам; пойти, (не)смотря ни на что; находиться (в)заключени.., (в)заключени.. статьи; некрасивый, за(то) умный, укрыться за(то)  дерево, сделать то(же) самое, то(же) пришли, (в)начале успокойся, (в)начале уро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2T05:38:08Z</dcterms:created>
  <dc:creator>5PC</dc:creator>
  <dc:description/>
  <dc:language>en-US</dc:language>
  <cp:lastModifiedBy>ДНС</cp:lastModifiedBy>
  <dcterms:modified xsi:type="dcterms:W3CDTF">2016-03-10T13:41:40Z</dcterms:modified>
  <cp:revision>15</cp:revision>
  <dc:subject/>
  <dc:title>Развитие ключевых компетенций на уроках русского языка                                (в начальной и основной школе)</dc:title>
</cp:coreProperties>
</file>