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D9F-86AC-4C58-9BDF-959ECA20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3FC-813C-409B-9BD8-AA067F31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91F-1E26-4F0B-AB96-0B25AC88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B1B-BC8D-41B4-AFAC-967306F2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0A85-FC5E-4663-A91D-499B0059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C8E4-4BD8-4151-9ACA-AA34BA51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8EAC-1036-4973-9722-6415165D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6ED7-7ED2-4FC6-844B-3B836CE4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4635-187E-43C4-A28D-AFA44536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3F40-289B-42DF-8823-863B004E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2920-6A3C-4445-99E5-6351BB27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02D3-E9CA-42A8-B8CB-A2CCC361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7FB7-E986-4BC1-BDC7-C459C71C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39B5-055E-44A1-B88C-E861519A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73BE-1FF4-4DF8-AED3-31869B6A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4CF3-3D8D-49BF-9077-1886205E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00C4-C570-4255-9BC1-25FCA406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20D-84D9-492D-AF6F-746A70C6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3348-57DF-4859-9937-2CF0B1CA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FEDA-C609-4E71-96E0-71267962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B19D-2481-4FD6-8E44-B79CAB1B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80E-8CF9-4E17-B8F0-FABD67E0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5127-FC2C-4115-AB5B-0D7E69DE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233-203D-4896-BE51-4A214253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4C61-C2D7-4669-9125-171DEF009E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D236-160E-4B3A-B994-936720B6E9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ущностные характеристики целостного описания опыта педагогической деятельност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8280" y="61718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кабрь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К ИППК ПК, 27-28 августа 2007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Задание 1 (10 мин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362320"/>
            <a:ext cx="84247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ыявить и сформулировать основные проблемы, связанные с обобщением и распространением педагогическ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знаки наличия пробле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 затруднения практик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 недостаток в результатах работы систем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 неясность причин и способов устранения недостатков (недостаток проявляется на основе сравнения реального положения дел с требуемым-желаемым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Символика ПНПО"/>
          <p:cNvPicPr/>
          <p:nvPr/>
        </p:nvPicPr>
        <p:blipFill>
          <a:blip r:embed="rId1"/>
          <a:srcRect l="0" t="21674" r="0" b="24256"/>
          <a:stretch/>
        </p:blipFill>
        <p:spPr>
          <a:xfrm>
            <a:off x="7920000" y="0"/>
            <a:ext cx="1224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 Rounded MT Bold"/>
              </a:rPr>
              <a:t>Письменные формы представления опы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24720" cy="445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клад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ть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рошю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ие рекоменд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формационная кар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о – методическая разработ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остное описание опыт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Алгоритм оформления педагогического опы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35344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я это делаю?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выделить причину (группу причин), которая побудила к поиску новых педагогических решени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чего я это делаю?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формулирует цель и задачи педагогического опыт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я предлагаю?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формулируя идею изменений, следует определить, в чем сущность инновации, преобразования, эффективного способа обучения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, как и почему я это делаю?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овые способы решения возникших противоречий нужно проанализировать и обобщить, показать их эффективность  и практическое значени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чем особенность оригинальность авторского подхода?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сравнить предлагаемый подход с существующими, традиционными и выделить, что привноситься нового, в чем суть авторских находок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это дает?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дающий качественно новый результат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счет чего достигается результат? Каковы ограничения и риски?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показать условия, которые должен создать или учесть потенциальный пользовател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может быть предметом опы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целостная систем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ключающая принципы, методы, средства, алгоритмы действий, правила, приемы, формы педагогическ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работы педагога по какой-либо одно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облем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авторская метод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дельны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эффективные методы, средства, форм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д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пыт освоения новы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апример, технология развития критического мышления) или взятых из прошлого, но адаптированных к современным условия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технолог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Тема опыта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улировка темы должна быть конкретной, то есть отраж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каких личностных новообразованиях учащихся акцентировано внимание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развитие …, воспитание …, формирование …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ми способами это достига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методы, технологии, средства …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каким этапам и условиям педагогического процесса, конкретным объектам она привязан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а…ступени обучения, в условиях городской/сельской/малокомплектной …школы, в процессе изучения …, в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еурочной деятельности по предмету и т.д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9044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ЛОЖЕНИЯ:</a:t>
            </a:r>
            <a:br>
              <a:rPr sz="32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ки открытых уро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ценарии мероприят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гляд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дактическ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агностический материа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комендации по его использован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вторские программ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об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ифровые и другие образовательные ресур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9044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ТРЕБОВАНИЯ К ЯЗЫКОВОМУ ОФОРМЛЕНИЮ РАБ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268280"/>
            <a:ext cx="79250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ч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ог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тк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огичн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ктивн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тк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Ясность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ставление списка использованной литератур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гласно правилам библиографического описания публикац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чень литературных источников, Интернет-ресурсов, которые легли в основу теоретического обоснования опыт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К ИППК ПК, 27-28 августа 2007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нновационный опыт «снизу» требуется рассматривать и использовать как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тенциальные «точки роста»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системы 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362320"/>
            <a:ext cx="842472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иссеминация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– (лат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sseminare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рассеивать, рассыпать; распространять) –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 Распространение из изолированного источника процесса по всей сис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 Процесс, направленный на то, чтобы донести идеи, методы их реализации, а также продукты и результаты инновационной деятельности  школ-победителей ПНПО до школ, стремящихся эти результаты использ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Символика ПНПО"/>
          <p:cNvPicPr/>
          <p:nvPr/>
        </p:nvPicPr>
        <p:blipFill>
          <a:blip r:embed="rId1"/>
          <a:srcRect l="0" t="21674" r="0" b="24256"/>
          <a:stretch/>
        </p:blipFill>
        <p:spPr>
          <a:xfrm>
            <a:off x="7920000" y="0"/>
            <a:ext cx="1224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8:11:50Z</dcterms:created>
  <dc:creator>методист</dc:creator>
  <dc:description/>
  <dc:language>en-US</dc:language>
  <cp:lastModifiedBy>Белоусова ОВ</cp:lastModifiedBy>
  <cp:lastPrinted>2013-12-18T03:58:09Z</cp:lastPrinted>
  <dcterms:modified xsi:type="dcterms:W3CDTF">2013-12-18T07:38:51Z</dcterms:modified>
  <cp:revision>29</cp:revision>
  <dc:subject/>
  <dc:title>Слайд 1</dc:title>
</cp:coreProperties>
</file>