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73-2023-4677-B3C2-C7CE90CA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BB4-018E-4BD8-8ECF-3DBD74C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11B-42C8-45A6-B18B-2E9006DD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FDB-2A61-4F10-941D-1B7BA790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21E9-D0A3-468A-A24C-E1578DAE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AF9-DA0F-49DA-9D2F-A3BC813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F8C-261C-4367-93B0-C9B5A874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9AF-3907-4D26-A027-F0C3DE9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1D2C-D0C1-4C3F-BAF9-1E166F9E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78B-B24B-4CE0-8304-D61FC389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53B-4846-44F0-88CB-DC5908F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C8B-44B9-42DA-8F0F-659743B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328-E9A8-4765-9D9D-DBEB4DD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8C7D-B4DC-4D92-AB61-46EB97B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562-BD07-4E72-91F8-232E254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39A6-B820-4653-AA39-4F5A4A95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6ED5-F4B6-44F9-B27B-6D5CB3D6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BA8-1D77-4D8D-91C7-ACDD706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775-3DFF-4A5B-9110-DF1DC00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78A-382B-41D9-A678-9D0260CE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4F2-C40B-4B09-AC8F-0621B70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DB4-B386-46F6-B557-9098C3D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8DE-CE6F-4E18-AEFD-788D8E7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8D9-DAC5-4BBB-997B-F42208E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FD9-1353-4027-9149-269832AD95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1AB-DAEE-492F-926C-9C0D483AD1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Оптимизация процессов изучения, обобщения и диссеминации передового педагогического опы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абрь 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ктуальность обобщения и диссемин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ическая наука не всегда вовремя реагирует на потребности прак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овой опыт является ресурсом эффективной реализации задач государственной образовательной поли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бщение опыта является механизмом развития методологической культуры педагога, выводит его на новый профессиональный уров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личие инновационной практики, деятельность педагога по ее распространению требуется при прохождении аттестации на катег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ости в формировании, обобщении и диссеминации П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или недостаточно эффективная нормативно-правовая б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нимание педагогами, что тематика опыта должна быть связана с разработкой и внедрением передовых технологий, нацеленных на получение качественно новых образовательных результа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ишло еще осознание педагогами, что обобщение опыта необходимо ему самому для профессионального рос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ладение педагогами технологиями обобщения. оформления ПП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«Проблемы и задачи школьной методической службы в оптимизации диссеминационных процесс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на из задач деятельности методической службы: продвижение иннов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родуцируемых как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сверху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реализация государственной и региональной образовательной политик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так 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снизу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обобщение и распространение эффективного инновационного опыта лучших педагогов и образовательных учрежде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11:50Z</dcterms:created>
  <dc:creator>методист</dc:creator>
  <dc:description/>
  <dc:language>en-US</dc:language>
  <cp:lastModifiedBy>Белоусова ОВ</cp:lastModifiedBy>
  <dcterms:modified xsi:type="dcterms:W3CDTF">2014-01-26T02:22:41Z</dcterms:modified>
  <cp:revision>26</cp:revision>
  <dc:subject/>
  <dc:title>Слайд 1</dc:title>
</cp:coreProperties>
</file>