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C4F-93E2-46B9-A94A-B34EE6C2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0C4-2747-431E-AD52-E7C6E4C7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4EC-CDF0-4C55-9B00-F30D44B4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A59-62AF-4575-AFF3-2E7CF991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D7E9-7D7A-4DD8-ABC9-02913B07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9E3D-614B-4B1A-917A-359FA942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820B-72F7-4CF6-BC91-816AFBD5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FAC8-D198-4D75-81C0-732CE7D2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0357-4F62-4DEF-9D98-B775D249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CC6E-CF85-44F2-86DC-E98DFE26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4654-2864-4B1F-BE33-3BE9C82D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1AB-2F48-49CB-A8B9-C5AF1EF7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8C50-8076-4D55-9F94-B6FF830D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8317-0B01-48FF-B9D2-A152C185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7574-3958-4004-BD35-3582A8E5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29E5-953F-4DCC-B8CC-F2FB9A96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D7CF-E3DC-4F57-B271-B2FCC360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66F-DF78-4323-AFBE-80502DB6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E74-6126-4353-8D3A-318DEE35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06F-D02C-4EE0-804F-89BC197C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4A5-C4B1-4303-9AB5-9E9EEEBD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3DF-829D-400E-B8DA-5EF8E02A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3A9-CBD9-40A4-8202-ED9396FF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A477-AFE4-484C-A6E8-3A251816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4CDA-E88D-4682-9F7E-61ECA93CEE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AAA6-9732-4FAD-B78B-522EEC352A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Оптимизация процессов изучения, обобщения и диссеминации передового педагогического опы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61718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нварь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рите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1413000"/>
          <a:ext cx="8207280" cy="515448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ктуальнос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отражение социально-педагогической важности, значимости для педагогической науки и современности, для совершенствования педагогической практики педагогического опы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овизна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а из наиболее существенных характеристик передового педагогического опыта. Этот критерий в деятельности педагога, педагогического коллектива может проявляться в постановке целей, отборе содержания, выборе методов и средств обучения и воспитания, форм организации педагогического процесс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Результативност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устойчивый конечный результат учебно-воспитательной деятель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Научнос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ответствие педагогического опыта основополагающим достижениям педагогической науки, научным закономерностям, принципам, концепциям, идея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57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Стабильность результатов –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дтверждение эффективности при некотором изменении усло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77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Оптимальность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ижение высоких результатов при относительно экономной затрате сил и времени педагога и воспитанни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Воспроизводимость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о опыта отражать рациональную идею, которая условно может быть «отделима» от создателя, и воспроизведена другими педагогами в сходных условиях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8:11:50Z</dcterms:created>
  <dc:creator>методист</dc:creator>
  <dc:description/>
  <dc:language>en-US</dc:language>
  <cp:lastModifiedBy>Белоусова ОВ</cp:lastModifiedBy>
  <dcterms:modified xsi:type="dcterms:W3CDTF">2014-01-26T03:43:46Z</dcterms:modified>
  <cp:revision>27</cp:revision>
  <dc:subject/>
  <dc:title>Слайд 1</dc:title>
</cp:coreProperties>
</file>