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2FE-10E4-4441-8BB9-4A1864CE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C4D-D175-453B-9E11-4B19BDFD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2B2-16B2-4651-83B5-FD5133AD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33B-9DBD-41B5-8301-0B8CE09B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1747-9785-4BEC-B418-4B29F29B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6337-6855-4F44-B3AD-1795DE2E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AC1B-B76B-4D8C-807D-9E506648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5D8-D717-4C7E-B103-88D5D5F2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764-285D-4F83-9C80-DE5D9C4B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8DB5-D70C-4B60-BEBE-FF6BE09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E86-A4AD-4708-8FEF-1D9466A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116-5EFA-4105-A49D-33752E1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DE4C-4241-4916-B68D-136544C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7DC7-3A77-4319-ADEE-78E92770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457-13FD-4823-93A6-B99B083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D800-E432-44CD-BF30-50D1EF0E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CF7C-FA86-4FD9-96EA-5D117B7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2DF-E29B-4410-8D7D-AADA3270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475-BDB9-4B95-B4CB-C5D7B8F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DE8-D2D1-4A11-A40D-46CBC45A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C47-83EC-4DDC-B497-B1BA6A88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D0F-3BCB-47CB-878F-0126205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8E3-8B04-402B-8FD2-775B1C9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4C1-12D2-4157-8E6E-A3C859C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CD5-4609-4D9F-B74C-85B1DE6E1A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538-892D-47A2-8807-9255394039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Оптимизация процессов изучения, обобщения и диссеминации передового педагогического опы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нварь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те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413000"/>
          <a:ext cx="8207280" cy="515448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ктуальнос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тражение социально-педагогической важности, значимости для педагогической науки и современности, для совершенствования педагогической практики педагогического опы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овизн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а из наиболее существенных характеристик передового педагогического опыта. Этот критерий в деятельности педагога, педагогического коллектива может проявляться в постановке целей, отборе содержания, выборе методов и средств обучения и воспитания, форм организации педагогического процес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езультативно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стойчивый конечный результат учебно-воспитатель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Научнос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педагогического опыта основополагающим достижениям педагогической науки, научным закономерностям, принципам, концепциям, идея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табильность результатов 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тверждение эффективности при некотором изменении усло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Оптимальност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е высоких результатов при относительно экономной затрате сил и времени педагога и воспитанни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оспроизводимост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 опыта отражать рациональную идею, которая условно может быть «отделима» от создателя, и воспроизведена другими педагогами в сходных условия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11:50Z</dcterms:created>
  <dc:creator>методист</dc:creator>
  <dc:description/>
  <dc:language>en-US</dc:language>
  <cp:lastModifiedBy>Белоусова ОВ</cp:lastModifiedBy>
  <dcterms:modified xsi:type="dcterms:W3CDTF">2014-01-26T03:43:46Z</dcterms:modified>
  <cp:revision>27</cp:revision>
  <dc:subject/>
  <dc:title>Слайд 1</dc:title>
</cp:coreProperties>
</file>