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89B-6768-4C2B-BFE6-4EC5FC83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DC9-4BB6-43BB-8DAB-E0977E40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CB2-6150-4C4B-8075-DA508843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EAE-2980-429C-BE6C-70D04637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C084-6383-4DDB-94AD-95B574C9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501B-1F4B-4BB1-929F-E1E2F0B3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D044-F552-4745-8332-6577B975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2C8C-1864-4C60-9CC5-4A60D74A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3FA3-E8BB-4319-9F57-F42FF814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7A81-C3BE-42FF-A01F-4F38EEB9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FFD8-A77C-4850-9E5E-F575F457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1A7-A830-481E-AD4E-DB52DCE7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1923-3511-4A92-A675-F6A00562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DF5C-E008-4246-9FCD-63F5E2D2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4E2D-194F-48F0-A1FE-D6D60E57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C6EA-0D7C-460D-8146-5884E6D5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B776-7F7E-4A13-81E9-222F6431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F49-D698-4D11-B2A1-868488BF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609-30FE-42F7-8B7F-4ABE67B2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F4F-1B16-4981-923D-295BB834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98C-5B38-42D3-82B7-A877CD64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4B9-0E7F-4A83-9C3E-B4C9E150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98B-CD75-4064-9834-8874E4FE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FD0-7D73-423F-AF92-938BBE9F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8E15-CD60-4D60-9081-653EB70ED0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CD1A-6523-4100-BABD-D6D107AA3EF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ущностные характеристики целостного описания опыта педагогической деятельност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61718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кабрь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К ИППК ПК, 27-28 августа 2007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дание 1 (10 мин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4247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ыявить и сформулировать основные проблемы, связанные с обобщением и распространением педагогическ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знаки наличия пробле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 затруднения практик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 недостаток в результатах работы систем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 неясность причин и способов устранения недостатков (недостаток проявляется на основе сравнения реального положения дел с требуемым-желаемым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Символика ПНПО"/>
          <p:cNvPicPr/>
          <p:nvPr/>
        </p:nvPicPr>
        <p:blipFill>
          <a:blip r:embed="rId1"/>
          <a:srcRect l="0" t="21674" r="0" b="24256"/>
          <a:stretch/>
        </p:blipFill>
        <p:spPr>
          <a:xfrm>
            <a:off x="7920000" y="0"/>
            <a:ext cx="1224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Rounded MT Bold"/>
              </a:rPr>
              <a:t>Письменные формы представления опы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24720" cy="445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клад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ть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рошю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е рекоменд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формационная кар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о – методическая разработ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остное описание опыт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Алгоритм оформления педагогического опы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5344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я это делаю?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выделить причину (группу причин), которая побудила к поиску новых педагогических решени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чего я это делаю?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формулирует цель и задачи педагогического опыт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я предлагаю?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формулируя идею изменений, следует определить, в чем сущность инновации, преобразования, эффективного способа обучени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, как и почему я это делаю?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овые способы решения возникших противоречий нужно проанализировать и обобщить, показать их эффективность  и практическое значени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чем особенность оригинальность авторского подхода?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сравнить предлагаемый подход с существующими, традиционными и выделить, что привноситься нового, в чем суть авторских находок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это дает?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дающий качественно новый результат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счет чего достигается результат? Каковы ограничения и риски?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показать условия, которые должен создать или учесть потенциальный пользовател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может быть предметом опы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целостная систем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лючающая принципы, методы, средства, алгоритмы действий, правила, приемы, формы педагогическ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работы педагога по какой-либо одно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облем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авторская метод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дельны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ффективные методы, средства, форм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д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пыт освоения новы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пример, технология развития критического мышления) или взятых из прошлого, но адаптированных к современным условия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технолог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Тема опыта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лировка темы должна быть конкретной, то есть отраж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каких личностных новообразованиях учащихся акцентировано внимани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развитие …, воспитание …, формирование …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ми способами это достига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методы, технологии, средства …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каким этапам и условиям педагогического процесса, конкретным объектам она привязан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…ступени обучения, в условиях городской/сельской/малокомплектной …школы, в процессе изучения …, в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еурочной деятельности по предмету и т.д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044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ЛОЖЕНИЯ:</a:t>
            </a:r>
            <a:br>
              <a:rPr sz="32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ки открытых уро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ценарии мероприят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гляд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дактическ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агностический материа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омендации по его использован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рские программ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об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ифровые и другие образовательные ресур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044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ТРЕБОВАНИЯ К ЯЗЫКОВОМУ ОФОРМЛЕНИЮ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268280"/>
            <a:ext cx="79250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ч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ог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к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огич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ктив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тк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Ясность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ставление списка использованной литератур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но правилам библиографического описания публикац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чень литературных источников, Интернет-ресурсов, которые легли в основу теоретического обоснования опыт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К ИППК ПК, 27-28 августа 2007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нновационный опыт «снизу» требуется рассматривать и использовать как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тенциальные «точки роста»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системы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42472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ссеминаци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(лат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sseminare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рассеивать, рассыпать; распространять) 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Распространение из изолированного источника процесса по всей сис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Процесс, направленный на то, чтобы донести идеи, методы их реализации, а также продукты и результаты инновационной деятельности  школ-победителей ПНПО до школ, стремящихся эти результаты использ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Символика ПНПО"/>
          <p:cNvPicPr/>
          <p:nvPr/>
        </p:nvPicPr>
        <p:blipFill>
          <a:blip r:embed="rId1"/>
          <a:srcRect l="0" t="21674" r="0" b="24256"/>
          <a:stretch/>
        </p:blipFill>
        <p:spPr>
          <a:xfrm>
            <a:off x="7920000" y="0"/>
            <a:ext cx="1224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8:11:50Z</dcterms:created>
  <dc:creator>методист</dc:creator>
  <dc:description/>
  <dc:language>en-US</dc:language>
  <cp:lastModifiedBy>Белоусова ОВ</cp:lastModifiedBy>
  <cp:lastPrinted>2013-12-18T03:58:09Z</cp:lastPrinted>
  <dcterms:modified xsi:type="dcterms:W3CDTF">2013-12-18T07:38:51Z</dcterms:modified>
  <cp:revision>29</cp:revision>
  <dc:subject/>
  <dc:title>Слайд 1</dc:title>
</cp:coreProperties>
</file>