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</p:sldMasterIdLst>
  <p:sldIdLst>
    <p:sldId id="256" r:id="rId70"/>
    <p:sldId id="257" r:id="rId71"/>
    <p:sldId id="258" r:id="rId72"/>
    <p:sldId id="259" r:id="rId73"/>
    <p:sldId id="260" r:id="rId74"/>
    <p:sldId id="261" r:id="rId75"/>
    <p:sldId id="262" r:id="rId76"/>
    <p:sldId id="263" r:id="rId77"/>
    <p:sldId id="264" r:id="rId78"/>
    <p:sldId id="265" r:id="rId79"/>
    <p:sldId id="266" r:id="rId80"/>
    <p:sldId id="267" r:id="rId81"/>
    <p:sldId id="268" r:id="rId82"/>
    <p:sldId id="269" r:id="rId83"/>
    <p:sldId id="270" r:id="rId84"/>
    <p:sldId id="271" r:id="rId8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" Target="slides/slide1.xml"/><Relationship Id="rId71" Type="http://schemas.openxmlformats.org/officeDocument/2006/relationships/slide" Target="slides/slide2.xml"/><Relationship Id="rId72" Type="http://schemas.openxmlformats.org/officeDocument/2006/relationships/slide" Target="slides/slide3.xml"/><Relationship Id="rId73" Type="http://schemas.openxmlformats.org/officeDocument/2006/relationships/slide" Target="slides/slide4.xml"/><Relationship Id="rId74" Type="http://schemas.openxmlformats.org/officeDocument/2006/relationships/slide" Target="slides/slide5.xml"/><Relationship Id="rId75" Type="http://schemas.openxmlformats.org/officeDocument/2006/relationships/slide" Target="slides/slide6.xml"/><Relationship Id="rId76" Type="http://schemas.openxmlformats.org/officeDocument/2006/relationships/slide" Target="slides/slide7.xml"/><Relationship Id="rId77" Type="http://schemas.openxmlformats.org/officeDocument/2006/relationships/slide" Target="slides/slide8.xml"/><Relationship Id="rId78" Type="http://schemas.openxmlformats.org/officeDocument/2006/relationships/slide" Target="slides/slide9.xml"/><Relationship Id="rId79" Type="http://schemas.openxmlformats.org/officeDocument/2006/relationships/slide" Target="slides/slide10.xml"/><Relationship Id="rId80" Type="http://schemas.openxmlformats.org/officeDocument/2006/relationships/slide" Target="slides/slide11.xml"/><Relationship Id="rId81" Type="http://schemas.openxmlformats.org/officeDocument/2006/relationships/slide" Target="slides/slide12.xml"/><Relationship Id="rId82" Type="http://schemas.openxmlformats.org/officeDocument/2006/relationships/slide" Target="slides/slide13.xml"/><Relationship Id="rId83" Type="http://schemas.openxmlformats.org/officeDocument/2006/relationships/slide" Target="slides/slide14.xml"/><Relationship Id="rId84" Type="http://schemas.openxmlformats.org/officeDocument/2006/relationships/slide" Target="slides/slide15.xml"/><Relationship Id="rId85" Type="http://schemas.openxmlformats.org/officeDocument/2006/relationships/slide" Target="slides/slide16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C4E-2C78-45D1-BD80-CA9FC94F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C5C-E466-4DA8-B458-AAF78C41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828DE-AAD4-4A99-AC5D-C0F21FB6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FCC51-B29C-46B7-BAE4-8200002C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DF2BA-E833-417D-BE85-B28638C7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2331F1-FB78-4C85-97F8-D283820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A6FFDB-7BF7-4EDD-A241-618E3BAD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49711C-C56A-43A7-B077-3A947392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C60C4B-140A-4502-9369-FD6AF939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0FD564-1B3C-4F77-ABF1-C5AC236F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95AD48-2E7B-4A41-9B77-1FAC3F50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85C1E-24EB-4B4A-B09D-85607AF1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980-6B5E-423C-AA01-B51993B2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3225E-8887-4EA9-8F1B-CC8362B8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1156B-8509-4749-8D26-4F9EF540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8B670-0A5F-4050-A0B2-53C24A22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B0B5A-3AFF-4557-BF83-44C40DF2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F7B23-8182-4A0F-B952-680F7931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CF608-615C-4363-B3D2-A9ABB060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29ED0-E3C1-4197-A765-30C82E2E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04895-DA98-443F-8590-80F21738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65908-D948-411B-A4C8-28FADBF5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C8915-6C2E-43E8-8557-FDBA9532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73B-3B48-4DD2-A704-F66B9ACD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58D78-4410-4A5C-9365-8DC66BE1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F483A-97F7-4DC1-98F4-675FAF2D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E3233-B72B-4CE0-B5BA-1F5FDF02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8B352-C982-4402-B30E-A821ED0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7B656-5C95-4ED5-A923-4C41178B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2B028-41A0-4AF2-B1F5-6B916BC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D6874-E871-4963-98B9-05393DFB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355A9-5434-4374-8CBE-D8C4BE0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9B0BF-9A3B-4142-8D1C-CF4A4554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17F9C-3A3E-40B9-A0EC-14016006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8A20-DC04-45C5-843B-7CFF0707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016F6-635E-4A77-AB29-8A0B1EA9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562CD-429E-4A13-82FC-7C2220D3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8DBEE-9481-417B-9977-05CF3EFF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AF53D-CBEE-4AB7-947F-2FE135A0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45402-8112-4867-A384-3A494BB3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F51C3-0C9B-4A8C-9BF7-1CA7A0B9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7042B-614F-48B5-8733-F358F597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0E904-135E-4CBE-B5D9-6A33AF1C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CC550-9F39-4E9E-BE03-E5C8AE78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B58DA-65BC-4C16-93B9-92F80DEC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95BE-36B5-4D7E-8BB4-3A06F061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2447D-6352-4FE5-9C52-425467C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81CCC-32DE-4B5B-A5DD-E7E3F28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8F37C-EA77-4650-90F2-51559A2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CC273-355E-4D16-9CBB-98CCD2A4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FFD90-9A35-4CAB-BB46-7FE0E558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4DC91-6DD1-47C5-8C37-67D4E1C9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31592-6D95-45BD-80A8-CF2D8094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00508-5947-4C93-A1EE-182AC46A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93805-FB57-4C86-BFA0-CE42962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E8926-E0AF-44F3-8038-17B80F80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D79F-FB41-48FD-B7A4-DA8490F8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91E44-57F0-40ED-B221-21301A9A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F2379-607D-4E52-BB35-94230CC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E5610-F540-42D8-AF33-D0828AF8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78F9E-1002-455B-8839-E0FF7EB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FE1AA-560F-498F-94C8-F686C983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4844C-8E90-4BCF-A380-E6BFEB8E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1685A-32F2-4E3C-83CB-9A0849ED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DA0E4-0719-42ED-AD04-D2CAFF59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B6F01-D89A-4BD3-BC83-FC65747B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A20F7-F3A2-43DF-B982-CCCF8ED5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2AB2-2B67-4A9F-943E-9E4F4BBB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FE28D-6D88-40B2-A792-C23266FD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54287-D258-4525-AC85-72B8001D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B36AF-261C-4686-BA06-36F37F0D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5F9A1-DEC8-455C-88A7-14AFDCB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E7B0F-21E0-44A1-B8A8-AA8F9CE9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76527-6D2E-401E-B238-FDC39D3F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0570A-A7B7-477C-A846-92088E1F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6E0A5-B3FD-4E7D-AE37-B6E9D749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7FD09-7CE8-4995-9340-F59B27B4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8359B-7D37-4F2D-BACF-AF7B3E6F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F882-6C48-471E-A465-1C4494CC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0FA8E-80F9-4BB9-B5B7-DBC7D7F5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2F60B-0CD7-4710-B957-0247F8DE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56803-AC75-48A1-97FC-84CAC911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83F9E-382A-4EDE-B82B-D096E422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83D36-4883-4237-9141-CF1E098D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DB0C2-1F1B-497E-A514-2ECE199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F70AB-F2AA-4604-BBB2-E7A44AE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6CA5D-91DD-4FF1-AF6A-FE3E4D3D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53CB7-A971-4028-9A2D-BB3D4BB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33587-080C-40CA-A908-254E8FBF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07A6-A949-4C78-B398-F6A834BF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2F87E-1185-483F-B3D7-4109F051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D9670-D7E1-4E59-834F-AC37F49F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E5ED9-48DD-46B9-95C5-71FDE146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2A85A-5168-47FD-948F-39A8DEC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8B2C7-24D6-4D8B-BD2D-824AF092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49473-DECD-4E48-888B-C79A0CDE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BFE5F-B690-4241-A7DD-17B7F31C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630D0-7026-4DB3-9786-51DB7CC1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542A8-CDE0-4BEC-B242-C4F8DFAB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EF808-D087-4770-AAFE-AC5764C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10F9-EF17-49A4-BC23-3205F5C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6036C-0A62-4EF2-93AA-95A5FB17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31EC7-8833-4D20-98F7-0C8EB2CC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FC64B-1621-4BEF-9A2C-60D3CFF7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D39B2-19DD-4FCF-9600-298C7940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15712-93EE-4EA9-AA99-54EA8D30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32BA2-F159-42DF-9F88-B0A2B9C8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03772-1E12-4732-8A5B-39824859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93AE2-536F-4518-9CBE-FFB49A40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781645-794E-4E4E-8EBB-63AD4418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162B5-7B85-4B6B-8234-CFEA274F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5E4-C776-4473-B04F-B23C183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E3DE-A282-4D21-BBB7-6C039490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51F60-B8E4-4738-9FBA-29CE4EB8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F3176-471F-459F-960F-576D7F9B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8D810-D31A-4916-A6D0-40F79AAF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B40B3-20C1-4B64-95B2-54066C87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3D9C6-5400-4EC0-B0E4-93421BBE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BA0D9-AD1D-4DBC-A979-88BD9BDC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F9CD6-4314-4CDD-AC5B-EA875E6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DB51A-C55F-4DA8-ACAB-1514FF60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7DD6ED-AAE4-4FE2-934F-EB834821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CC87E-439F-43B3-A106-B773D6B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B09D-9BB2-4DD0-891B-4F00F03A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EBA62-043A-4744-B206-070B4237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81ECF-A9AA-423C-9F95-0B215DB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008C3-C907-4A0A-9268-D13F9EEF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DB3E9-CA7A-477B-927A-B8EF620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7C9396-15A3-441F-89FF-134550E2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6B358-A328-4CD2-8337-50302404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3B5A3-E2D2-471B-90F8-E68F2C3A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FEFA8-3F80-48A6-88D3-D493BB6D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2D35A1-37E1-43D1-9F50-05DECFEC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CA32C-952B-45DD-BA9E-3D2F9799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0463-69DA-452F-9726-8283EFCC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AA08F-F5A2-4B29-B4E3-0AC3B27A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45F14-EBFD-4C20-BCBF-C469A600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14350-9946-43FB-B49E-BADF6FB1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FED22-AFCA-4105-AC9A-192A9787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2F2DA4-87E9-408B-BA5D-6728F188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35FB85-1721-4B91-AA7C-A512D1C8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FABF6-9213-40C5-8C38-1506DE06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CF92F-4D21-4472-B163-48DFCD04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23FDE-4B4B-4702-A233-DED697C6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9717D-70B0-438E-9B19-20B770C3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A353-CEF5-4D6E-B30A-DF76C78C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17EE9-9951-4099-A01D-D638AF73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EDDAD-3F6D-4EFE-8EBC-B9991575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4E3E43-6581-48AE-AF0A-F0F422F6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6CF79-BCC4-4514-9C9A-5CC5E5F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43D60-06FA-41A8-8DD8-43040003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982F4-6E11-42DB-B9B3-4129E6BA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ED03C-604F-4E21-BFFB-B6D988F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256BAD-5C38-45C5-92D5-8ADD0ADB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EC646-CC66-4B73-BBB1-58CF44A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C9AF15-75DB-4829-9D6A-532603A5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07CA-4998-44DF-B4A1-C59ACDFC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04121-E8C9-40D5-B5F9-22D09374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ECEB8C-DAA3-442F-B56C-D58D3C43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FC7A7B-74E1-47CB-AE60-7016785B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826E8F-5D1D-428F-81FB-2502CD69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1D5C3A-206C-4725-B008-FACDADF2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98A54-0DF3-4B49-87DA-F517AF9A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67A38-E344-4917-BD94-C3B94303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DFD57-609D-4EC1-ADC4-5743A149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D9266-0CC2-47CC-BB64-5F33FEC7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D34C2-D8BB-49AD-A2CA-66CE1E72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9DA2-CC59-47FB-AF72-C1E0821A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63FC89-4EA9-4D90-8261-1D304B04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68E3B3-42F0-4D09-8B36-1A76806A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BAB7B-1204-41AC-8D38-4F561FDC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1DEE3-20EB-4FF6-8E13-D32BA875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8B1946-AB69-4C43-B90D-FE41668C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F1C11-950E-49DD-B77B-AA04F1BC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67784C-40FC-48F9-BB29-3900CC97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75341-3B3E-4C3A-8C63-F770D113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4735FA-9FBF-4B35-B0E3-BAE08D9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15EDAB-82AF-47B8-BACF-1D4D8AD4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D34B-22CF-4955-A2E8-90091DA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779040-D1DD-4C47-A34F-7ACF5021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49EFB5-9A74-4388-B8A4-2A67DA74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C80F8B-6566-49E9-BBD7-4562363D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E592EC-7783-44F3-8993-34B3EBDA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96E2C4-BB52-4742-AAB1-EC0C9B84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8A8E8E-6CBC-425D-9147-C23336D4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BA0F50-3ADD-4CA4-B668-D9BD4A3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72D25D-8B01-4396-B6BD-D8BDA6AA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A62079-2269-4E8D-BA7B-E46DF0BC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F539EC-5A94-4218-8E1F-52453F56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53B0-9C72-48E0-8FA5-CEEE9D87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5A0E9-D4CD-4B55-B309-B89F61D9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6A677A-7FF7-4968-8B49-2B798DA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A58C83-66E3-45BE-9A47-2DAE4C3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C069C9-ECB9-496A-A024-5FFF28F7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B44F98-A29C-42C7-AE66-6D2B6055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CB7BCD-1197-49F3-B9D4-34BB99F7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6FC575-7264-4218-BA8E-C34CCAC0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4CBC93-17DE-48E4-A5CF-E73CD8C9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EA586F-0E06-4725-8BD5-566804C8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372A9A-523E-47C5-A8BD-4BC86C2B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FC4D-A40D-449D-B6DF-A5E9A30F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FE2D13-9347-40B7-A60E-9537ED73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CD86A5-764F-4E77-8031-4234F127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BE1F41-65F2-4647-99E3-17AFF0F8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2F2951-5339-4AC3-978C-D83C1EDB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8946D1-9E9F-49C7-A6A8-C91FD2C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18703-0373-47C9-B91B-0F724758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0BC5E0-6D8C-4C1B-9D74-344E5E4D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760BDB-BB18-41DE-9953-FF3B3141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3CD2D1-74FC-4D47-9EB4-4975F93D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0B9A2F-BE95-49B7-8CC5-CAFB9813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03F6-082F-4D39-A375-2C9246EF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0D3BB3-4A3B-4E0A-91E9-C57028F6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FE63C7-3FAA-4F62-A028-4F7234D7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E8B07F-E83F-4D4D-A770-52D40986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238DC1-22A0-42ED-B19A-0301F31E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D5AA4B-00D5-4BD3-803B-61C42783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45A50E-C25A-4D88-8F0E-93BE88FE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240991-284A-485C-B619-3C5F3281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36815D-0345-47FC-8630-4548E153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B52AA1-E8AF-473D-AD0A-80BFA993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67B0B8-C992-4DDB-A920-7F598CD4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BE3-9C6A-4213-8D2E-39C3B0DD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7770A-3448-40FB-954C-0A670FE5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2F12EB-2212-4F24-A09C-6D315E96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C5F4A4-7C99-42D9-B2BC-8F72E479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09D592-4670-4EC0-9778-4CD4C579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96538C-CED0-4640-B004-E7EB2873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10C709-EEBA-4B83-BDAC-68C01DD5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DD3135-DD58-47D4-9D48-D5E4A4F8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52D28E-C6E6-432B-AF3C-DFB62123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751A14-D36B-4535-A08E-1626BE32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4BBDD7-F825-4302-ADD2-EB93BE82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15C259-CCAF-4C97-9CA6-9F6BDB56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BB7C-04A6-49D8-9E95-B38400D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043299-D805-4A24-B0D2-CDD74EA9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E6FB5C-23C2-4D04-ADAF-21CC56F4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EB5E35-710D-4291-A572-88FE4BF3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35554D-FF3F-4AA9-8B0C-79811BFB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B56277-1F5E-4727-A49A-64F09CF0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4778B7-D09A-47B1-B59D-8B2B1419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229FC4-94F0-4839-BE13-E24822D8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3FEC02-0EA9-4D6E-AF9A-AE486208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4B7766-5716-46FE-B763-BED12D80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1733D1-AFF0-4EE1-8127-B8720883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2AA0A-F382-4782-A704-DB5F01F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9086D9-71FC-4E2E-9673-55BB5F9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7E8F80-3EE7-4A83-BCEB-32EF356C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0F6485-4D7D-4E43-89AB-038E2E74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0F328C-BEC6-47B3-9497-B994E064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125519-3FBC-47F3-B3B9-10513482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E4B8BE-D728-4D7C-AE06-82E960E5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1EE352-7569-4828-AD6E-7198DEBE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D7A4B9-7C5C-48D8-85F9-18B15EC3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A6BE74-C7B6-489D-99C7-A2050CE0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6A9C77-8258-4F73-A259-7DC34B11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1C2F-BA83-434F-BFF1-2982270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078F05-74A6-41D6-94A2-7D5C96BA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D0CA75-5988-4C00-82AC-2E0A5A9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557AAC-1030-4436-9EB2-EEBC40F0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25402A-7E24-41F4-A5FA-BF88C7D3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CB02CB-465E-44F1-823E-E78E1FD8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720732-E0B8-439B-8D67-9C194CBF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599F61-B457-4439-AF00-6D6791E5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8A18B0-4DA8-40F1-8148-ACD45443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ECC9FB-D4C6-4862-888E-D1512A8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C38A70-2460-447C-8FE1-779B7CB7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EC14-B1C2-45E3-86A1-D4C3EE15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1E5971-FA6E-4652-9F22-1A161D46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8DCAA0-D9BD-4818-BAAE-C3375D5E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64C3AE-ACEE-4320-B76B-DC9D7F8C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218ACB-E491-4990-BB9A-1B1A3FFB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3F6A23-8E0D-4DF2-AC58-B666F891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35C120-1F04-49F0-A17C-8E26241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6008C3-33D7-4FBB-A666-6B645915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2B1C4D-6066-4149-88A5-BB3E585D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CB32AA-0738-4DD6-94FE-96A316FA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76B823-9C9D-40CB-B8B8-F8EE12C5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92FB5-274F-4067-8668-94628434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04C42E-C576-42C8-BEAD-34EFE84D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18BEEC-FF88-4B2F-B389-F91BE0F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EE650F-057A-4471-B196-006FBE37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BC738F-D12A-42B0-9E0D-504867CB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6AC747-CCC3-4002-92B3-8F76E409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7AD4E7-C25C-41A4-B07A-8B376A72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800E0D-8586-4F42-8CD7-95A0F19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4144B7-EE31-4B99-8D56-D840C893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CC331E-2E69-4877-9F89-76ABD584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491E81-733A-4113-ABF8-6F5A8DEF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1151-2B60-439D-991F-C25BB906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A29D4A-F4FE-4DC2-A1D8-7BC9D7AC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9B7FEF-0FEA-4411-9660-A00E4C53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D9B438-DFD0-44B9-A785-671688BE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ED3B00-0C64-42DF-8DF9-0B135E73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761637-6B3C-4743-B61F-26E3CEEF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E62E8F-4850-4577-9410-4DEDFD2D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72FDAD-5712-4CAA-89D1-2D56513C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2D21BB-7A12-486E-8DCA-88FE6503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6D4364-BB49-4EF2-A545-1695FEA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D1541D-0622-4D8C-B137-79BBE141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E70D-E201-4178-9462-5C92AE5E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3832BE-AE1F-4B4A-B817-828FFBF3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2BF788-A08E-4245-A045-50209A8E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C6A049-553C-4E9F-B592-9FD8FEAF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746661-F83B-42A3-9C46-E12416BA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769BD3-29AA-4358-8EC7-75546D58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B4DCC3-7022-4478-948D-38FAF69B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34BB76-E416-4C94-8F58-CFA9981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184088-10F2-4E92-B29D-139033B6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A8F090-A9CC-4B8D-B2B2-433B978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71D009-1525-4388-A83D-78E5AC5F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BEC17-8D0D-4EF4-98FA-D7B0C4BA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745B53-B67C-4368-862E-36BEA8D7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D66859-7DF5-4F8A-B43E-1E8C056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0A5BF5-A8D3-4E88-A395-822DE28B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A1C007-3A39-4745-8A41-AF6A759C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FF94EF-46B4-400C-A8BF-2E3A0772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84F5C9-9180-4427-9075-C19B1264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7AE25A-4370-421C-B08D-FD3A4C5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9CD0AE-1F7B-43EF-9B0C-9BE223F9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CFE1C7-FA64-4BC8-B4E1-5D462CCD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325E25-9223-4FDC-8C02-3058F65D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CCFD4-1F5B-4943-9B7F-FBF3F5EF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E90771-CE96-4B78-BF3D-82FC389B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05D8B3-C2AF-4949-BEE0-1193F914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C47B7E-E3FD-4159-A538-BEE9CB25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9A70C3-607B-4357-A5ED-6396B69D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C380BA-EC89-44A1-85EE-38720376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8B14AC-304F-47F5-96E5-39417BE4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3EFB86-0567-4230-9000-C1F06948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1640EF-807E-4DC4-AC74-C4EEFAF6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86BF67-48EC-4795-8B3E-5D7738AA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B9DDD2-E78E-4E76-84FA-DE963EDE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63D-E37D-47B4-B7C7-854E2E61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1529-C2D9-460A-8D5C-9DDE2D88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068557-05F0-4051-8D87-61509BB5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2B678E-4775-4D84-82D3-5C9A85C5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A90B8B-23C4-4F8B-A821-0F053D0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06FFA5-A363-4CBF-B985-6596808B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74F58B-E9EE-4D5B-A67E-7819C9B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D0151B-5B2C-4A97-93DA-F257102C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FA21A8-F0B0-403F-B23F-5C793468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702329-B9EF-4B3C-BA2B-2E4B0C96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A0200B-B390-49F9-B231-9382422D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CDC808-B56D-4A7F-B152-22BC0D89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B543-830A-479E-ABA5-A8BAEDC0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144D79-458B-4278-8E7D-9EB2B6BA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74A18B-D876-467C-BBEB-E418561A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A9F821-50A2-494F-8FF2-39622FAA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8DC5A2-A789-47FB-A080-C7AB7463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58C63A-423F-436E-AAC9-CDAD6C99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B8F3B0-20BF-4F10-BDFA-8CC4F4F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F224B2-3575-4288-8223-ADA7B07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3495F5-B90C-4F41-86B9-6EAEE2A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5E85AC-32D4-4D03-9497-1DC17E78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EE8AC5-6FF1-403B-BF01-13AA5E64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49FC-FFC4-4B19-B4CD-8C39F477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D29607-F992-46DC-AA84-FF9AC7FB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E9BED1-CFEA-4384-9675-F3DC1F2A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02E258-8C6C-4D78-9436-0D6C0C80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03811C-2755-4445-878D-14AFF529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61458C-F0BB-40B5-8D70-37E64552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6FC24E-E17D-451A-9ACB-8B8B6B55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DEE926-960F-4147-B02F-F208E10A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42D383-245F-4C3B-A4B6-3989EF5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004297-DE5C-4D3C-A1B6-D7F4FE6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B788A3-2443-4CA6-BC1E-F87A8280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14A6-FB52-4575-A27A-5699FE4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FC8615-6C76-4FD2-B2C9-0468342C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D867E5-A506-480E-9BBD-AAC79C90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3A7E0E-73C6-43C0-80D1-15AE2634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8C8783-2C8E-44FF-BBB9-180891DC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C34FB8-A7FB-4A21-9B9B-246A2E13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587850-4235-4512-B75D-81BA2172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BD8C26-2803-4203-9E58-0D9BE80D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82FD9A-0095-43A5-A16B-05F6629E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06730B-8C3F-44D5-A4BF-7363CC00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994B93-DB5F-4D5C-BBE6-A85B18C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933E9-5A70-4305-886F-74067AB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CC9490-2AD2-4109-9CEA-0D73C68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BF62D0-F650-4D88-9DA0-ED331C9D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34C4C4-1F24-4116-8143-1CF1E6E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611163-2B29-46BB-B393-605BCF5E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005E52-0C8C-40DF-9C23-65C080DB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5397C0-5756-4D1E-B879-CF404CE4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52E0F8-EB8E-479D-B6F9-DEF0FC0D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CE8E56-C309-4086-8E38-2F30E2A8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0B2EF1-79D9-4C1F-9489-8437C441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FC1C9F-A03D-45E2-845B-6ACF9E35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44DE-CF4C-40B9-A2DB-8825559F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26100F-84EE-4577-B090-0FBAA5D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C315C1A-243C-43D5-AEF7-4F33C5FF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40D6D9-4DC6-4153-943B-634DFD47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B6AD49-1BC9-4829-9A50-74EEC09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F772151-2DB7-408B-AD82-9F10F629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73E083-DA0F-4B95-BD66-DD496C26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29412E-C96D-45A8-8D16-68727F2C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EFEAB7-5224-455C-BBEE-E0A5D0ED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863DAA-9810-400F-AB2B-9D64B79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5A3AFE-7F42-451D-A04D-401431ED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2DE4-B489-4C5F-978C-0C2352FA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C14D2D-C311-4AED-A8F1-A4E856D4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1D9C131-DC9C-42A2-9618-7657D56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9240158-9FC1-4E96-9D03-EFE479DC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7885BF-1CA4-4742-8033-D71A6DF8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8CAAA6-DDB4-4809-9944-871A8A80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1FBD55-5DFD-4738-BB63-7A8B8CE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17449B-3E4A-4F5E-B25E-ED92EE87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EA6E26-7C9D-4112-9DC9-2D8CD84B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0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1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138B90-3E8C-46EE-B961-E2075504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A952EB-D0D7-4C14-A575-EDBC4D8A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D7A6-1E72-46AC-811E-5A976CBF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7A5FBB-9601-4E8A-B2CD-90F9B3AB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CEA6E2-F883-419D-BC5F-C7567F0E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54F97E-92EF-4F11-9068-37D333AC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EA9754-54B0-4EB0-8EE0-0F5E3865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91DA76-8672-46DA-A3C1-2B820061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2E88E3-2BEB-4536-9AE8-D99591C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3643B8-E279-46D2-B009-BB09A5C0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BD56B2F-5B6B-4061-B213-8DD2DA3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548E0A4-DCB1-473A-8DBC-1E7AE4F9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BE75B7-7904-43CA-A7EE-BABB1C70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5AC6A-9989-471C-8FA2-D5CFC6B9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4D8A69-5698-415A-B887-A32A913C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A38604-EE7F-4EBD-A1DC-D88433AA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BC4530-7EE4-4DD9-AFF4-E63CE141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9FEA27-526C-42D5-B5CE-63A60AB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DB632B-F082-44B2-A453-6A59DCD3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255708-075E-42D6-9CA7-EA27D6AD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E531EA-6333-4572-9164-11F244FF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547DC5-B131-456E-849C-03F1B90E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183AE2-1B24-456F-B15F-27AFDA95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4A7879-227A-462C-A999-E6EE7EC7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EF5C7-36F9-4EAD-969C-994C6676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BAB4E0-797A-4F4A-B2D6-FE0B232B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5AE61D-0500-49DD-812F-94DD5FB1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E10636-D1EC-4A3A-99DC-DA1832BA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18D8B2-0623-4841-AA3F-347ABD53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512804B-A089-43A6-A624-A7737A16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6DC076-8EEA-4AC6-9E1B-724DDE0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AD9DDF-161F-468B-A952-6D4A50C0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42E0A5-E8BD-40ED-B262-92A36286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55E391-6ECF-4D76-BBCC-6D76050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4A1101-9B06-437C-9492-84A9F68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E13-DA3F-455A-A6F3-C79765DE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DD225-6137-429B-9619-1BAFBF63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43E25A-5674-47BB-BAB7-D50F4CE7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B35D3C-1195-47E6-9BA8-93191D25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C3A80C-CDD3-4875-ABD3-5CABCC36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6AFC85-B64C-4B3B-B583-EAA709C3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31FAC5-6722-47DC-B682-F8D57100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C3ADBB-9669-4286-BA6D-578E5C11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4C860CF-1FC7-40AE-8E16-9465C9CF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379713-AA48-4EFB-A0D8-77801E3A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58C17FD-2513-4067-B501-D02140AF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E45783-D5C2-44F7-B48F-AB4A04A4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5F230-7A55-45EA-B709-DC55552B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8993E1-56F3-4299-9E40-8DA33EEB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74D871-10DC-41F1-A0DA-6CC029D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039F19-6F6B-404B-B685-3C64C7E9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97600C-E0BE-4A01-9477-2AA50533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3CE247-3FCC-436E-954F-AA81B3A5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16A9CD-3550-43CF-8B72-BA7B5371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BC805F0-4491-453D-BCCE-04B511C5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4ED57DE-3682-4143-BFFE-1009D233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3F774D-16D1-48D6-9FF2-B920C4DE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54079E-F7C9-485C-845E-E19819C7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9832-2067-4F91-B219-68D8DEA5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D5F19A-73F4-4801-A3ED-82E1D3C6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F0A3EE-7CBB-44D5-B6D3-81C90DD2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119E52-BF62-4C7B-ABB3-393EFBF2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B096AA-FC55-4CF5-9973-2ADE740A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3FDB5F0-1984-453E-BA06-60F0B9C3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C0CD5C-97B1-4D67-9070-6D8AF00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E82B40E-FB6C-4092-BF8C-EEF7930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49EB93-80F6-47C8-A0E1-00DE1A26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1CABFA-9C84-463B-AEC2-52A98BAD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60FD65-E664-4161-BB67-5F1EFEEF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98E2E-DCCD-4B1C-AC37-2CB8AB05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675DD8-62D4-4D54-B49B-B4888D24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84C248-A131-40F5-9F91-4C34B412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C1A8CF-2E3B-4AC9-A435-95FC048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3C53D5-A0DA-4D9B-80EA-281CD564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A0862F-EFF5-4303-B0E1-EE1F18C5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FAA6E9E-524B-43DD-B6A3-06231CCC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452866-86C6-44B8-9634-4108F82A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2C6AA8B-9EBF-4547-ADEA-49B67A78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F59849-B680-4845-88FE-2502E36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608050D-50C5-41E7-998C-1E42B73F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FFCF8-03CC-4875-9B62-472E2CCC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4239360-CD57-4B75-9823-7DB679FC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2C38E0-5195-494D-9BEB-B2701D5E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FF060D8-3D6F-4A64-875A-325C556D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A29333-6C4F-452F-A165-32D1957E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1584C1-FF31-4441-82D4-1256B5E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A42847-17E2-404D-ABA8-7E5C9932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0EE5FB-D40A-4A2A-B186-8E3B920D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03451F-3C60-4010-AA34-5D3CF47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8222CA3-AE4E-4BC9-8A19-FB334D6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BAAF0A-654F-4CA1-9F2D-F5374C5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49EFF-B4B5-48F8-8C96-5FE300B1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1573379-8B76-4BB4-858B-13601458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60B76B-E0FE-41E0-8E49-37CE3CA6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7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8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F498DE-9605-416D-99B2-44094F15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D11275-1E19-4455-B348-2DF7D3E1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E57A8E-ABE9-424F-B4AE-825C9453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A723DA-7904-4606-9F54-27317F8F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1AB6FE-DFD7-4370-B8B7-44ED1125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0B0196-CA91-4BA2-8056-C4858FA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02A67A4-4236-400B-ADF7-6E94D26D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352407D-DF31-4A78-B3CD-CC9CE0CF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7D4B8-3497-4F57-95B9-F0549F24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4190A6-D4F1-478F-948C-8C293FB3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A98CEAE-2EBF-445F-8C11-8773800F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A8C08E-2BB7-497A-8152-D7479EC6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942E2C-71A1-4363-8D3F-F85B84FF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8F47FD-5A22-48BD-8EFE-814AFFD8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BABECB-0486-4726-8426-9F1A922C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4DBE3D-9115-467F-B21A-3A9C7F5B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FDB5CF-A290-410D-BBB0-38511C2C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B12C51-FC05-4254-B86B-657F712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B3BA43-6B3F-4DF0-9FC5-B24A330B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7A97F-C4D9-4C3B-BE51-7216309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B41D67F-80D8-4501-AA4A-D5B47338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B8B18B-D9FE-410A-A8CD-11C212E7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19667D8-6A78-42F5-A686-27A07CB7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0F3364-4E1E-45CB-956A-0D31CB1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82DE08-8C39-4F36-80DB-3E3FCD50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73EDAE-4EF4-4549-8129-C69A04F0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8BFBD34-0AEC-40B0-B3D7-444EB2F5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0C95A4C-041B-404C-A7B4-38854F7F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3E82C7-0D53-4323-87E1-975BC8ED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277027-74F1-45F7-9FA9-D2A73599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A57D-05D1-48D0-9DA7-0CED2A1C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B85C736-4712-4507-B8C8-0F13AB09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0DDB6DF-0AD9-4185-A97D-A00D2CD3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7C247BE-5924-4C4F-910A-5FE564A9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3799A9-82C4-4692-86F8-4C1F5B39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F7C30C3-C16E-4238-BCBA-D879A1D3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E4A28D7-5588-4C05-94EC-E32F038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EFF2BF-5188-4D56-A652-5C7C382D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4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7E7B7BB-7292-41A1-B698-F5765BD4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0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1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8BE93A4-EC49-4F42-956C-84C81E5E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0FE29D6-D549-4EBB-B6BC-AD8E2741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E0013-F9AE-4C08-95FD-BA578638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C0C8DF2-7CBD-4048-9420-868541B0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92B8A0-CD3F-4CF3-9A58-7E1E573C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8BB3AA-F69A-48A7-A1C5-D3FC68EA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4C5C212-18F6-469D-9E7E-E0209322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B382500-54D2-48AD-BDE3-C87BC01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0B2B2C0-2A94-4C05-9D20-8A1D551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65B801-EB1B-43CE-9B0B-98FE4660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7CDEF9-2D11-43C3-B764-7B00D562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9AB6CE0-98D7-42DC-89A3-4AE2C4F7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1F62D3-BC20-4666-ACA8-FCD08FE0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E9D-7109-4C00-B6DE-1934732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4C79-F76D-47D7-856F-3D001F8E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1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2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D841D2-91A3-4851-97A9-6BA36878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5EE4693-15D1-49CA-8865-8C72ED7C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7FA6899-E378-4C1D-8680-3FE487E7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E06F0CE-5DFE-496C-9034-8738B978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4A8C4F8-C7A3-4BBD-A49F-CA14DB8C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22B42B4-A067-46CA-A625-836A6195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50453ED-B810-41A5-8E65-A853C7C9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B94AD7-9FCC-4E49-97B7-CD89378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20A20A0-55B3-4248-8039-A404658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94259FE-3748-4893-AFF3-71FA1CB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873BA-57B9-402E-9565-23C5FC05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EF7161D-FDDA-45DC-92C2-4CCEA966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A53CF28-B6CC-459D-A67C-E1CD8DA4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92DD15C-353B-4DD4-87FE-BFB56E40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049B412-4A48-4067-80EB-C87D8890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DFBB12F-75CF-4D70-957B-AB31FE3D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161B34A-6B0E-47D4-BFF6-2FD2789E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F9DDA9-7468-4DD2-A0B0-934352ED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A08C67-F3BF-4DD4-8520-830C035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307B9F1-1F79-427E-B025-A1D7F6E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5C67648-B456-4EF0-A14A-65CB249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4B054-97AE-415A-9E54-499ECA42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C8321E0-D03F-4755-B4AE-222EE29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0062360-0897-4758-80A9-F03C58C5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15B411D-F940-4A43-ADED-3972417A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725074-80C0-4A08-AA75-AFC7B82D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1D5183-422B-41D4-B279-C8094703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C356CD2-4BAB-401A-829D-FC7E8C6D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B08181-7FBE-4593-92B1-069416DF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EF6916E-BDFE-45BE-86CC-F663D138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7A990D-4572-47B1-972B-DC6E403C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89842AB-2E60-4B53-BEE2-7758862E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DF617-3528-4AE3-8376-2A253A09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9E3958-3A07-4E2D-A27D-9CAE6BF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A0E0FF1-1036-4F34-8DDC-8C96B384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5960CE-0554-408F-9922-226861F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E09E168-93FC-4329-8317-57FF1770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5A0419A-2E79-48EA-98CB-3B6E57E6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D5073C-F648-435A-B361-D7DE0B31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5E876B-B924-4A2A-AC42-E0FB98D9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ED9B2C-A91D-4469-A883-E700E3D7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DA65F3-FD8E-4E79-96E0-2F619D10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80E25BC-7467-4511-8E80-BF91D1A8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C425F-633E-43D5-893D-C614C53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22438F-22DA-439D-A882-81D565DB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EC234B9-B204-4055-A064-90ED6D79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F2509FC-9A70-4C79-A4D7-C93EFA6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DCD895E-2F71-440D-ADBC-BA448259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7D9B03E-FB66-4AA7-B9A5-9E1110D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60367FD-013C-405A-8958-77D90433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505655B-9FD3-4FAF-9F4E-8F6403C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575E649-44DD-4D6A-A0A2-28AA3532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7D24853-969F-4128-8383-958DABE7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4C440AB-9484-4FE1-8A56-8BCAC041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11486-385A-463E-A49C-D048B9BB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F5476DB-8563-4F47-B603-BC3B92E6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2D26D63-2F09-4048-B081-BA219792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9586E37-90CD-48E5-89FB-6D573A6E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0ABD7D5-C5AE-4D58-ABBA-278E50E5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0E29019-8E4E-4E9E-B3E9-B77CB1D3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0FF6745-BBB2-4598-AA12-E1A6254B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761B6CA-E949-488C-B307-17F795EF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B8FE31-5AEE-4985-8C16-EF391B72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693FD7A-7A8F-4791-9E79-BB76E1C5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038F7CE-6CF8-4078-88DD-EE9648E9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F48B6-3785-4135-A510-0CC8A7A0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BD76650-DFEE-4D72-A7FD-84383871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791A6B7-45D9-4058-B456-A5F1435D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576CEF9-68BE-4E3D-9F3D-037CA464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F5D1F4B-5500-4850-B245-9DC0AB62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42AF6F9-B1E8-4F0B-8996-057EB908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B71B8B6-A77E-4D32-8D62-6CC155D1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28074F-6C54-469E-B82F-B029EA6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DFD2DA9-210B-45B1-997B-3828B54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24A84C6-9904-48E8-AB28-7D3D00F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F75F55-2A88-432B-AF98-96D0BD8B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60886-399B-4FFB-B3C4-96A45A8E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9F01AE2-53C3-4741-9142-2678A9AF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A1C4DD4-2835-468D-B041-D6CF0B24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7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8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4AD14DC-433E-4B8B-B92C-5515A598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044FC24-15A0-46C2-9B43-6E130DF6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62C3B1-7A1F-4691-88DF-5A4A0684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354E1BD-6B17-4CD4-A5BC-A85BD285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933E771-0D46-495D-BEFB-79390A51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3D32B16-1B07-423C-90E9-51584858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E01BFE6-0316-4AD4-A0BF-41349533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AEE7D46-A4FA-4C3A-A889-CF6447E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01404-99BF-41DE-90A8-E99883B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28F1C13-83D9-4049-AC79-02D7179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2970FF8-A578-4135-8501-A940B24C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2C1F655-BA8C-471B-8478-85D34140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D0E828D-FCD3-42F9-83E4-0D89E510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544AC43-C4C1-4C37-82D6-7EA84161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0D0581F-8953-4A4D-B295-C5B69F6F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0862ABE-F826-454B-A01D-AEC47CD0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5BBE99-3A82-48A4-9756-C15580AA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DA59944-8C7D-4F4B-9222-FBF5E6B5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8FD25AA-1958-4BAA-B46B-0F88F6F8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80E1D-FD9F-4028-882C-A951BC78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21F6656-EBBD-4ECE-B921-5D31599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EE74A0-C460-493D-A435-44F12AC0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E6D47D2-CA04-40F4-A1C3-41C92BE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B90DFB3-76ED-4D5A-A2B3-085AAFF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269A6B1-2F26-4627-9D08-CEAA0464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051BB67-B044-4109-AB45-CFBB1FAE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51BB7F0-24A1-4F32-8E11-1784B7CB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992C7A1-46C4-4FBE-9FA5-F009A408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B86281-FD37-48B6-B795-9D03A0C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A5C3BD7-3F9A-49D5-B75D-5CC207CF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A96-FB5D-4D01-857A-0615169A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2D0D0-CF1B-48E9-A6E9-F2F858D5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775DFF2-4F05-4CEA-9F2B-CF93D95B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526EDED-2CDF-4B84-804E-12046C0D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BDF2127-3F95-4CB1-8D21-0D2A1F63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56686F-974B-4B08-A579-E74AEDC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9E6C418-0A5F-42D1-90AD-AD58871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38EE786-645A-40AA-86AC-212B2DB1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9E06B79-C5A7-4B72-95F7-DCEE03F5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4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C6A2258-CDC3-4FB5-B7A2-6C2880AE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0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1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DD1BC92-7322-4469-B267-EE31D3D0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1C750C4-CE77-428E-8F6A-3DF78677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37A3-4AEF-4898-888D-97B32F44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CE0318A-8949-4CF0-BABE-448EBAC7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519CAE0-DE6A-41AC-9205-66B0DB18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60AB64-CA2A-4F53-8F4A-E14F889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E26884F-052B-497C-B916-A2A0B924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5DCC27E-D314-4D64-A609-D0E76CB8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D53E9A9-D3D7-4355-BA4E-777B33B7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04FFECE-DE88-4C4E-9698-C0DE0B3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569A31F-52BC-4565-86F2-BC99881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EF6C77B-28DE-4603-BB9A-9BFD3B47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603AD46-9CE5-40BE-9999-B4745998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6BB22-04AD-4025-AAB8-13F34A6D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1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2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5D87A55-CA4A-4104-8F24-2A8B7E9B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22931A1-BB67-4C93-9CB4-5FAA2EB9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5F5DFFA-C7CA-45C4-B8C7-0F7B2AA9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85998F8-4CA4-4E7C-91A5-CE909523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278E82C-F2EF-4A9D-8507-0021E99F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786DE80-546E-4299-9603-5F4065CF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BC3B50C-DABE-4DE0-99BE-E92E2306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E1D4C70-173B-48AA-B17B-E068748B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47BF06D-F1F3-47A2-BC8D-E6F56FB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A6AFA20-8D9F-46FD-945B-D0323D0D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7DF9B-40DC-4BF3-BD68-989C3432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8D164CA-EFA2-4B74-A66D-177CEB89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D846C6A-618E-47D1-93D9-BEFDB618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31F09B1-FAB2-44CA-8529-4A7DAB67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F212205-2C56-4F56-BC6E-F625EB46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AB20739-8D61-4C2A-B8EC-399C28D8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C56906F-D83F-4720-B97B-CA66F5BE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06F3657-5234-42FA-B605-05FBFF1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0166101-437E-44E6-8423-1654689C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B5E9816-AEFD-4CA9-8851-836144AB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7DB6E41-8421-4EE2-AEDE-C1D731C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220B-DB73-4691-9492-1CDEDFA7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011BD73-9D33-4D10-892D-9396B98F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849CA34-53E6-492A-BAEA-03F7437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010F311-3E78-41BB-8C3C-F6A3A679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F53E927-9C95-44F4-9B6D-AEDEE255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371D61C-F089-4F63-B8AD-D8BC8993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CFCDC01-4B08-44FF-BC58-7D35C708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F77F871-4581-4F42-8841-976DA896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E65C8E3-46ED-4B4F-8D7B-64949469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D1574C0-4E5D-40FC-9AE4-D45C51C8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5B011D8-0BC8-49B9-BC86-9EDD1D1A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961DC-E510-4362-BE92-0D1BBC60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E0DB324-6621-437B-A33C-34AA3889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4F43C8E-531B-47AE-B86E-B5DF0F04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14CA318-AB08-4C41-9DC5-BBD0F083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82F3496-DCE4-464E-862F-3E456FA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F827840-F0D2-42A8-A8AE-93D5CE08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66BF616-891E-4AA5-BE83-17EF3225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6CAD0F2-D24D-4179-A813-140D321F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A8DB62C-DB6D-406D-81C9-79FC0AD2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8087D73-8996-4A5A-8AAC-1D3CB5F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87F89A2-97E3-49B8-88C2-D6CACC4E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27E3C-2FF7-4A5F-A11A-2777E4BA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C071D92-5951-4C4C-BD65-10375267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23FD34A-644D-4F69-83EC-36875159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9E7CFE6-E454-4C26-AD71-D2CB1250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20E4605-C23D-414A-9B0E-C48C7C60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1504A92-FC24-4918-94B8-6248C46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B41C7DC-2222-4E42-969D-1D26E566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5B9242C-F571-4DF1-BC0E-2E8E50C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BD21A23-FD78-47E1-B3F5-258CD79D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F8EA0B7-C102-474F-A072-00F4BFC5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7C1AF33-D89B-465C-94CA-0D3FAC78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BF1D2-39F1-4BA4-87A6-FB781AF8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A4C341A-02C6-4D6D-858F-282A525C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6971528-ABF1-4FAC-96DD-AE70A0BB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61C3257-31E4-4E15-8525-FFFC0C1F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D81FDCB-B5C3-42C8-91D2-43EA6EB0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51C0F33-036F-4193-81FC-7F333D07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B373D7E-2D75-47C5-B08A-5097CA7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22B226B-6646-4E0E-98D8-CA2E211C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0B02006-DEC3-4DDE-B86C-DBB0C7C7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0A01CA5-5F98-4CE6-BD62-8E79CEF0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0111461-5CFB-4663-962E-02F6FA30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D5468-955B-4001-A198-59159BCD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6167607-7494-493E-B960-4EF41CFE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F302E1E-048A-4432-8D3C-C3EF58DA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D2FF473-F427-4DF9-9E58-2F603235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329C638-3A32-4379-9CDB-FC33D889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9A7C966-862A-4687-8120-1586516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9921C3F-75F5-493B-B22E-DD8C714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9BC15CA-8C00-4C94-A8F5-5CB7A7F0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851307A-52CB-4A46-BB29-6F51C072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89C23BD-CE8D-483B-9463-F755D9B6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EAACFA9-E96D-455F-9EB8-2D7F74AA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C5116-C28F-41FF-8CE8-8D0200A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AF36B28-592A-42BA-B61E-822C2320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0E0F176-91D0-4BB8-841A-033053FF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6E3FA34-B419-4DD5-AA06-CD3485AF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9393950-493B-4893-910D-1FB9C89A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0ABFF05-B924-4BE0-952A-2D7BDA97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D76CA04-58BB-452A-8495-C7BC74A4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87A00517-4ED1-4781-B2A1-224F907E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42BF45A-3EAF-4623-AFC4-0E43773C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F6E93FD-74DD-43CE-9CFB-3DE986AD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689D7CD-5346-4B3A-96A1-01F69DFD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D35-7C0D-49EC-ADFC-66D9585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281DE-DA28-4099-89C9-30741095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D5EB0FF3-1FD7-476F-9A2F-B851CCC7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EA52E5D-C5FE-45F6-95CB-48E0242B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B5F6E03-C5D9-433C-BB60-11C9325D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CD1B45AE-AC9B-4ED3-8FCA-BC0E2A08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52476974-5F4B-4BB9-93AD-0321456B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81B5087-C4EB-4791-A2C0-1D0BA867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6ED9E00-28D9-46F6-8AA3-3B02AF52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60FF027-D607-4F0C-BA8F-B0AA31E7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46D8353-2E1D-49DE-B45D-FAD8DDEF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6761BEC-4B29-4258-90BE-5566437C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DE20-3C17-4394-8488-4D475E6B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CE64AAB-9770-42F5-BEEF-BA87C61B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C20F859-B41C-40CB-8DC2-EDEAF14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271EA86-51BB-40B8-B2DA-486E34C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03D1188-3A0B-4CD7-BFE6-538CAB2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972BBA5-18E0-4820-8F7B-E32FB1E5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7658673-E24D-4A25-A2BE-42FEC022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AF22009-B586-49D3-BB26-B58BF5A1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1D2FF-B380-4EEB-8649-DECCD456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13EF-CBA0-4E2C-8223-D349E4A2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76DD8-6937-4F77-BEA5-F0FA8E9F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AF295-14C0-4BFA-8249-A7D98513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99987-2E13-49BE-8EEE-E02A4000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AC327-EF6A-49D2-867A-D1404326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C779E-3645-4584-9B32-F702CDB7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1B9AE-C0C8-46C3-B000-6D5B9DB3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C29-41F6-47CF-AF6B-C746FF66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8D6F7-19C8-4CB2-8EF2-F2448B41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8D36-F6C8-4A76-A5EA-83A2651A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FFBD-8B1E-462F-B8D6-0702065E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4F0A0-3D5B-488D-ADE5-BB9D9769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6751B-1657-4DB2-9DE7-2A033A9D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69F09-A4BA-46CC-8FDA-4A8A6C32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D0B2B-242D-4D0E-AFD1-D8817C42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467AD4-14F1-4A7C-A2E1-86BC3E1A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6AA40C-2954-4C46-BFC4-9448ECDE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CF56DF-FCB9-41A6-A010-D8BEE69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05B1-3E7E-46BD-B45B-30ADB1B5E12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877860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C663-36CB-4DC2-A17B-26E59F4EDF7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BC70-1D5B-45EE-AEEB-8120756CB5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032C-F9BC-4CFB-BA06-B6FA3C33BB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2AB1-7DB3-4CB2-AC3A-21DB8B828B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438E-B29A-4ECB-BB29-5038C43729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6709-5CD9-4369-AC24-BFAD5E9B69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0BFB-A8EA-4207-A87D-8D0B67E86F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EC39-EB16-4446-A43C-239BFAFFD6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5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62D6-A242-4FDE-9F81-A3997848C2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5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DD7F-1267-4FB7-B0AE-EE288FBD14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F4CB-7597-4F23-8465-85B64783C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32A9-70BD-4E3E-85CF-3B5B7B311B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6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6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687-FA3F-4CB3-88B7-05B39955ED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6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6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6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3CEB-764E-49E4-95B0-F8BEE68163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6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6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6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A1FC-38FF-49BA-9A22-2F8145DD51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7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7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7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4645-69A1-40E2-AC98-D6C0005B57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7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7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7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1609-78A8-44DB-ABE7-840D111FBA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dt" idx="7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ftr" idx="7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 type="sldNum" idx="7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22BE-E27A-4B9E-A9F5-CA28C6B433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7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8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8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AC7A-2265-4652-A586-FD82DB8383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8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8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8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B150-28A1-4F54-8F80-992E79EF17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8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8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8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F775-68FD-4378-A70B-E4A84474B0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82F0-4686-4C34-B66E-DB7E77E9B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9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B4EC-B0D9-4E87-BFD2-41E1C6D0D8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9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9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9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B184-9359-47FC-95CE-62177F9A54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9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ftr" idx="9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sldNum" idx="9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A254-66CE-4C1C-9F0E-4FF2D610E5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9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9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9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0B27-4821-4B56-BFCB-C6728A4451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10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10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10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CA3E-A5ED-462B-A7B3-D73797C3C2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B49C-AD0B-4D11-A65D-FCCDC95D8F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10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10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10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EDDF-41CA-4745-9752-009D74515A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1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1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ED00-3527-4D8C-8B62-C9D5B9FE66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1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ftr" idx="11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sldNum" idx="11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04D6-22DC-44EA-9BAE-BF1FB8D1F0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 type="dt" idx="11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 type="ftr" idx="11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 type="sldNum" idx="11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A9A6-124A-4688-8D5B-E474B04FE0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BF8A-FFF2-4538-AEFD-B2772D320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 type="dt" idx="11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 type="ftr" idx="11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 type="sldNum" idx="12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AA4E-FA1D-4858-9226-42CCB8D48F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dt" idx="12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 type="ftr" idx="12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 type="sldNum" idx="12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7C48-AE7B-4A2D-B04B-C1F305A1BA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12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ftr" idx="12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 type="sldNum" idx="12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0097-60E9-4369-883C-A3041EA1BD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 type="dt" idx="12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 type="ftr" idx="12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 type="sldNum" idx="12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AF70-BBAC-494C-92FA-64AD858AE8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 type="dt" idx="13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 type="ftr" idx="13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 type="sldNum" idx="13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F5EB-3762-4AA9-AD70-1DE7D468DB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 type="dt" idx="13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 type="ftr" idx="13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 type="sldNum" idx="13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6042-E67E-4520-9838-1DB65265D8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 type="dt" idx="13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 type="ftr" idx="13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 type="sldNum" idx="13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D9C6-0893-49C0-B409-554EBC2262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 type="dt" idx="13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 type="ftr" idx="14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 type="sldNum" idx="14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1972-79EE-480A-A565-E6B5AFDD99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dt" idx="14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 type="ftr" idx="14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 type="sldNum" idx="14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6AB2-9633-47B8-B7EE-7FEB279F37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 type="dt" idx="14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 type="ftr" idx="14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5"/>
          <p:cNvSpPr>
            <a:spLocks noGrp="1"/>
          </p:cNvSpPr>
          <p:nvPr>
            <p:ph type="sldNum" idx="14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7AC3-F37E-47F1-AC13-644E0AEA2A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FF3C-1E7C-4271-8F4C-D84E948DD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 type="dt" idx="14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 type="ftr" idx="14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 type="sldNum" idx="15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EE31-546D-48AF-8BD8-54F3CB431E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 type="dt" idx="15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 type="ftr" idx="15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 type="sldNum" idx="15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770C-E6A5-41A1-8CF1-023A57659A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 type="dt" idx="15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 type="ftr" idx="15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 type="sldNum" idx="15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A64F-C28C-4393-BB85-5A5FBE4E36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dt" idx="15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 type="ftr" idx="15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 type="sldNum" idx="15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40E9-6B16-408C-9BC2-1D346A212C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 type="dt" idx="16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 type="ftr" idx="16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 type="sldNum" idx="16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53D3-672A-4978-BF6A-91B79336D5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 type="dt" idx="16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 type="ftr" idx="16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 type="sldNum" idx="16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D030-7DCC-4AD9-803B-4D8139B4ED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 type="dt" idx="16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 type="ftr" idx="16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 type="sldNum" idx="16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3893-81BA-47D3-9102-98B45D8917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 type="dt" idx="16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 type="ftr" idx="17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5"/>
          <p:cNvSpPr>
            <a:spLocks noGrp="1"/>
          </p:cNvSpPr>
          <p:nvPr>
            <p:ph type="sldNum" idx="17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F5FE-E421-4D83-A91F-D8D332E1C7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 type="dt" idx="17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 type="ftr" idx="17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 type="sldNum" idx="17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C2C5-7FF6-471A-9B2C-38295F32B2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 type="dt" idx="17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 type="ftr" idx="17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 type="sldNum" idx="17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2D97-E17C-4ADE-A6D2-7E5A365428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7D8-072F-458B-9435-55633A99E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 type="dt" idx="17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 type="ftr" idx="17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5"/>
          <p:cNvSpPr>
            <a:spLocks noGrp="1"/>
          </p:cNvSpPr>
          <p:nvPr>
            <p:ph type="sldNum" idx="18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9FBF-061A-4B52-A1EE-53807E5CE8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 type="dt" idx="18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 type="ftr" idx="18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 type="sldNum" idx="18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57C-8538-41B2-9FBB-A63F17A28C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 type="dt" idx="18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 type="ftr" idx="18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5"/>
          <p:cNvSpPr>
            <a:spLocks noGrp="1"/>
          </p:cNvSpPr>
          <p:nvPr>
            <p:ph type="sldNum" idx="18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0F31-E407-44EC-BC76-AABC48018C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 type="dt" idx="18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 type="ftr" idx="18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 type="sldNum" idx="18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E5C6-7C80-4EE0-923B-DA59E695E0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 type="dt" idx="19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 type="ftr" idx="19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5"/>
          <p:cNvSpPr>
            <a:spLocks noGrp="1"/>
          </p:cNvSpPr>
          <p:nvPr>
            <p:ph type="sldNum" idx="19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F4CB-E169-4C0B-8CE6-F6BBC915E0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 type="dt" idx="19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 type="ftr" idx="19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5"/>
          <p:cNvSpPr>
            <a:spLocks noGrp="1"/>
          </p:cNvSpPr>
          <p:nvPr>
            <p:ph type="sldNum" idx="19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B84B-B927-4D80-9619-3BCF8296D8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Прямоугольник 19"/>
          <p:cNvSpPr/>
          <p:nvPr/>
        </p:nvSpPr>
        <p:spPr>
          <a:xfrm flipV="1">
            <a:off x="7213680" y="3809880"/>
            <a:ext cx="497844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Прямоугольник 20"/>
          <p:cNvSpPr/>
          <p:nvPr/>
        </p:nvSpPr>
        <p:spPr>
          <a:xfrm flipV="1">
            <a:off x="7213680" y="3896640"/>
            <a:ext cx="497844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Прямоугольник 21"/>
          <p:cNvSpPr/>
          <p:nvPr/>
        </p:nvSpPr>
        <p:spPr>
          <a:xfrm flipV="1">
            <a:off x="7213680" y="4114800"/>
            <a:ext cx="497844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Прямоугольник 23"/>
          <p:cNvSpPr/>
          <p:nvPr/>
        </p:nvSpPr>
        <p:spPr>
          <a:xfrm flipV="1">
            <a:off x="7213680" y="4163400"/>
            <a:ext cx="26208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Прямоугольник 24"/>
          <p:cNvSpPr/>
          <p:nvPr/>
        </p:nvSpPr>
        <p:spPr>
          <a:xfrm flipV="1">
            <a:off x="7213680" y="4199040"/>
            <a:ext cx="26208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Скругленный прямоугольник 25"/>
          <p:cNvSpPr/>
          <p:nvPr/>
        </p:nvSpPr>
        <p:spPr>
          <a:xfrm>
            <a:off x="7213680" y="3962520"/>
            <a:ext cx="40845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Скругленный прямоугольник 26"/>
          <p:cNvSpPr/>
          <p:nvPr/>
        </p:nvSpPr>
        <p:spPr>
          <a:xfrm>
            <a:off x="9834480" y="406080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Прямоугольник 40"/>
          <p:cNvSpPr/>
          <p:nvPr/>
        </p:nvSpPr>
        <p:spPr>
          <a:xfrm>
            <a:off x="0" y="3649680"/>
            <a:ext cx="1219212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Прямоугольник 41"/>
          <p:cNvSpPr/>
          <p:nvPr/>
        </p:nvSpPr>
        <p:spPr>
          <a:xfrm>
            <a:off x="0" y="3675240"/>
            <a:ext cx="1219212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Прямоугольник 42"/>
          <p:cNvSpPr/>
          <p:nvPr/>
        </p:nvSpPr>
        <p:spPr>
          <a:xfrm flipV="1">
            <a:off x="8551800" y="3643200"/>
            <a:ext cx="364032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Прямоугольник 43"/>
          <p:cNvSpPr/>
          <p:nvPr/>
        </p:nvSpPr>
        <p:spPr>
          <a:xfrm>
            <a:off x="0" y="0"/>
            <a:ext cx="1219212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 type="dt" idx="196"/>
          </p:nvPr>
        </p:nvSpPr>
        <p:spPr>
          <a:xfrm>
            <a:off x="8940960" y="420696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 type="ftr" idx="197"/>
          </p:nvPr>
        </p:nvSpPr>
        <p:spPr>
          <a:xfrm>
            <a:off x="7213680" y="4205160"/>
            <a:ext cx="172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 type="sldNum" idx="198"/>
          </p:nvPr>
        </p:nvSpPr>
        <p:spPr>
          <a:xfrm>
            <a:off x="11093040" y="1080"/>
            <a:ext cx="996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2DA5-9A40-4936-9CB5-8418C871C95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5" name="PlaceHolder 3"/>
          <p:cNvSpPr>
            <a:spLocks noGrp="1"/>
          </p:cNvSpPr>
          <p:nvPr>
            <p:ph type="dt" idx="199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PlaceHolder 4"/>
          <p:cNvSpPr>
            <a:spLocks noGrp="1"/>
          </p:cNvSpPr>
          <p:nvPr>
            <p:ph type="sldNum" idx="200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16DA-DD1A-4941-BCF3-EEE7CBF7981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5"/>
          <p:cNvSpPr>
            <a:spLocks noGrp="1"/>
          </p:cNvSpPr>
          <p:nvPr>
            <p:ph type="ftr" idx="201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 type="dt" idx="202"/>
          </p:nvPr>
        </p:nvSpPr>
        <p:spPr>
          <a:xfrm>
            <a:off x="877860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 type="ftr" idx="203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5"/>
          <p:cNvSpPr>
            <a:spLocks noGrp="1"/>
          </p:cNvSpPr>
          <p:nvPr>
            <p:ph type="sldNum" idx="204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D618-BAEA-4197-A8A1-D3049A1548D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37C1-6F67-4471-9A1B-773439D4127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9"/>
          <p:cNvSpPr/>
          <p:nvPr/>
        </p:nvSpPr>
        <p:spPr>
          <a:xfrm flipV="1">
            <a:off x="7213680" y="3809880"/>
            <a:ext cx="497844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0"/>
          <p:cNvSpPr/>
          <p:nvPr/>
        </p:nvSpPr>
        <p:spPr>
          <a:xfrm flipV="1">
            <a:off x="7213680" y="3896640"/>
            <a:ext cx="497844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1"/>
          <p:cNvSpPr/>
          <p:nvPr/>
        </p:nvSpPr>
        <p:spPr>
          <a:xfrm flipV="1">
            <a:off x="7213680" y="4114800"/>
            <a:ext cx="497844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3"/>
          <p:cNvSpPr/>
          <p:nvPr/>
        </p:nvSpPr>
        <p:spPr>
          <a:xfrm flipV="1">
            <a:off x="7213680" y="4163400"/>
            <a:ext cx="26208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4"/>
          <p:cNvSpPr/>
          <p:nvPr/>
        </p:nvSpPr>
        <p:spPr>
          <a:xfrm flipV="1">
            <a:off x="7213680" y="4199040"/>
            <a:ext cx="26208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25"/>
          <p:cNvSpPr/>
          <p:nvPr/>
        </p:nvSpPr>
        <p:spPr>
          <a:xfrm>
            <a:off x="7213680" y="3962520"/>
            <a:ext cx="40845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кругленный прямоугольник 26"/>
          <p:cNvSpPr/>
          <p:nvPr/>
        </p:nvSpPr>
        <p:spPr>
          <a:xfrm>
            <a:off x="9834480" y="406080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0"/>
          <p:cNvSpPr/>
          <p:nvPr/>
        </p:nvSpPr>
        <p:spPr>
          <a:xfrm>
            <a:off x="0" y="3649680"/>
            <a:ext cx="1219212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1"/>
          <p:cNvSpPr/>
          <p:nvPr/>
        </p:nvSpPr>
        <p:spPr>
          <a:xfrm>
            <a:off x="0" y="3675240"/>
            <a:ext cx="1219212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2"/>
          <p:cNvSpPr/>
          <p:nvPr/>
        </p:nvSpPr>
        <p:spPr>
          <a:xfrm flipV="1">
            <a:off x="8551800" y="3643200"/>
            <a:ext cx="364032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43"/>
          <p:cNvSpPr/>
          <p:nvPr/>
        </p:nvSpPr>
        <p:spPr>
          <a:xfrm>
            <a:off x="0" y="0"/>
            <a:ext cx="1219212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8940960" y="420696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7213680" y="4205160"/>
            <a:ext cx="172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11093040" y="1080"/>
            <a:ext cx="996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4396-B7CE-467C-8708-BCB1A1817AF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6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F11E-2E32-4267-8651-AAF80EC79D4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7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7;&#1087;&#1080;&#1089;&#1086;&#1082;%2050%20&#1085;&#1072;&#1080;&#1073;&#1086;&#1083;&#1077;&#1077;%20&#1087;&#1077;&#1088;&#1089;&#1087;&#1077;&#1082;&#1090;&#1080;&#1074;&#1085;&#1099;&#1093;%20&#1087;&#1088;&#1086;&#1092;&#1077;&#1089;&#1089;&#1080;&#1081;.doc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47400" y="445680"/>
            <a:ext cx="11420280" cy="326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«Школа  как образовательное и социокультурное пространство для самоопределения и профессионального определения в изменяющемся мире»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ОБЛЕМА школьных програм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 взаимодействия с реальным бизнесом на постоянной основ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кольники научились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ывать проект практически  (Экономика проекта, показатели и п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атривать рыночные возможности всесторон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действовать коман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овательно отстаивать точку з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ВНОЕ преимущество участия в прое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1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пыт взаимодействия с реальными предпринимател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СК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тсутствие действующих предпринимателей в прое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аевое агентство содействия предприниматель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csp27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Хабаровск, 680030, ул. Дзержинского, 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: 47-44-20; 47-44-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т предпринимателей в муниципалитет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зможности образовательной организ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6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блица 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пользование профориентационного потенциала учебных предмет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блица 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"/>
          <p:cNvSpPr txBox="1"/>
          <p:nvPr/>
        </p:nvSpPr>
        <p:spPr>
          <a:xfrm>
            <a:off x="293400" y="772920"/>
            <a:ext cx="112107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уже  в  школе  важно помочь ребятам осознанно выбрать будущую специальность, которая будет востребована на рынке труда, чтобы они потом смогли  найти  себе  дорогу  по  душе,  получали  достойный  заработок, могли состояться в жизни». незамедлитель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0" name="Picture 4" descr="http://su12.ru/images/vector/201610/68d2d4735ff63c9428c61d8c136870cc.png"/>
          <p:cNvPicPr/>
          <p:nvPr/>
        </p:nvPicPr>
        <p:blipFill>
          <a:blip r:embed="rId1"/>
          <a:stretch/>
        </p:blipFill>
        <p:spPr>
          <a:xfrm>
            <a:off x="639720" y="2550960"/>
            <a:ext cx="90489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ормативные  докумен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2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едеральный  закон  от  29.12.2012  №273-ФЗ "Об образовании в Российской Федерации"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едеральные  государственные  образовательные  стандарты начального, основного и среднего общего образова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цепция профильного обучения, утвержденная приказом Министерства  образования  Российской  Федерации  от  18  июля  2002  г.    № 2783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ые сектора экономики Российской Федерац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ПОСТАНОВЛЕНИЕ ПРАВИТЕЛЬСТВА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 от 21.02.2015 N 154)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4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остроительный комплекс (авиастроение, судостроение, автомобилестроение и ины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ое производств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щное строительств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и телекоммуникац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ый комплекс, в том числе воздушный транспор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и распределение электроэнергии, газа, воды и иных ресур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атывающие производства, в том числе производство пищевых продук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                                       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1"/>
              </a:rPr>
              <a:t>50 приоритетны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5" name="Picture 13" descr=""/>
          <p:cNvPicPr/>
          <p:nvPr/>
        </p:nvPicPr>
        <p:blipFill>
          <a:blip r:embed="rId2"/>
          <a:stretch/>
        </p:blipFill>
        <p:spPr>
          <a:xfrm>
            <a:off x="8945640" y="1187280"/>
            <a:ext cx="1800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97" name="Объект 3" descr=""/>
          <p:cNvPicPr/>
          <p:nvPr/>
        </p:nvPicPr>
        <p:blipFill>
          <a:blip r:embed="rId1"/>
          <a:stretch/>
        </p:blipFill>
        <p:spPr>
          <a:xfrm>
            <a:off x="1492200" y="577800"/>
            <a:ext cx="100998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480" y="255240"/>
            <a:ext cx="109728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иды деятельности для раннего самоопределения детей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9" name=""/>
          <p:cNvSpPr txBox="1"/>
          <p:nvPr/>
        </p:nvSpPr>
        <p:spPr>
          <a:xfrm>
            <a:off x="609480" y="1089000"/>
            <a:ext cx="109728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онкурс творческих работ  «Мои родители – предприниматели»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Журнал «Реальные истории моего бизнеса»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Атлас «Профессий района (поселка)»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урс начинающих предпринимателей «Деловая игра»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гра «Предпринимательское мышление» с использоваем сказочных героев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уб деловых детей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ворческие мастерские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айт «ПрофВектор»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хнопарки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опарки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Шоу профессий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етние смены по профориентации («Юный учитель», «Юный продавец»)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Ярмарка учебных мест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неурочная деятельность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оциальные пробы, практики «Соц работник»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Школы – центры  компетенций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икбез для родителей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азовые площадки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«Сын полка» (один день солдата)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«На посту с участковым»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зможности и Потребности район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1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следование возможностей школы, своего поселка по самоопределению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витие малого и среднего бизне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лечение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реальны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редпринимателей (через Совет предпринимателей, родители-предприниматели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привлечь предпринима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. Через организации инфраструктуры поддержки предпринимательства (у них есть выход на бизне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. Через Советы по предпринимательству при главах районов, городов, населенных пун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#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Бизнесвшкол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проек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зать школьникам силами предпринимателей, как можно рассчитать и усилить бизнес идею с перспективой вывода ее на рынок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актика  школьников на предприятиях, профессиональная ориентация, заработок денежных средств – возможные следствия участия в проекте, но НЕ ЦЕ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19:16:24Z</dcterms:created>
  <dc:creator>Алена Казеичева</dc:creator>
  <dc:description/>
  <dc:language>en-US</dc:language>
  <cp:lastModifiedBy>Белоусова ОВ</cp:lastModifiedBy>
  <dcterms:modified xsi:type="dcterms:W3CDTF">2017-03-02T02:26:38Z</dcterms:modified>
  <cp:revision>144</cp:revision>
  <dc:subject/>
  <dc:title>Презентация PowerPoint</dc:title>
</cp:coreProperties>
</file>